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9F00-ED88-4A69-8583-535C33F1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C5D1-2D24-4C8B-8E8E-2170DC85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3204-8348-498C-901E-B0B4D6E7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0EF9-0EAF-492E-84B4-7A3089EB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54F0-6F34-4832-B4E1-B9D66A96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8453-CC3C-4578-B184-9E3B023E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D3B5-27AB-47C5-980A-05E729D0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DCD1-6687-4BDF-B5B0-29A96ECF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D85C-0B76-41C9-A460-5922CB55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B58F-83CC-48A9-B0A3-2904B203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62AB-08BF-4D64-B140-E7F9B3EA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2726-FE14-48BC-8F15-8609EAA5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F285-24D8-407B-B299-9128084EC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2 Warm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198108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the following fractions to decimals and then order them greatest to le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946160" y="3251160"/>
                <a:ext cx="46418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544680" y="4749840"/>
            <a:ext cx="241200" cy="198360"/>
          </a:xfrm>
          <a:custGeom>
            <a:avLst/>
            <a:gdLst/>
            <a:ahLst/>
            <a:rect l="l" t="t" r="r" b="b"/>
            <a:pathLst>
              <a:path w="671" h="547">
                <a:moveTo>
                  <a:pt x="1513" y="13692"/>
                </a:moveTo>
                <a:cubicBezTo>
                  <a:pt x="1749" y="13661"/>
                  <a:pt x="1926" y="13691"/>
                  <a:pt x="2158" y="13742"/>
                </a:cubicBezTo>
              </a:path>
              <a:path w="671" h="547">
                <a:moveTo>
                  <a:pt x="1513" y="13196"/>
                </a:moveTo>
                <a:cubicBezTo>
                  <a:pt x="1581" y="13208"/>
                  <a:pt x="1823" y="13255"/>
                  <a:pt x="1811" y="13370"/>
                </a:cubicBezTo>
                <a:cubicBezTo>
                  <a:pt x="1788" y="13588"/>
                  <a:pt x="1465" y="13505"/>
                  <a:pt x="1612" y="13519"/>
                </a:cubicBezTo>
                <a:cubicBezTo>
                  <a:pt x="1679" y="13541"/>
                  <a:pt x="1697" y="13545"/>
                  <a:pt x="1736" y="13568"/>
                </a:cubicBezTo>
              </a:path>
              <a:path w="671" h="547">
                <a:moveTo>
                  <a:pt x="1910" y="13221"/>
                </a:moveTo>
                <a:cubicBezTo>
                  <a:pt x="1901" y="13318"/>
                  <a:pt x="1849" y="13473"/>
                  <a:pt x="1960" y="13543"/>
                </a:cubicBezTo>
                <a:cubicBezTo>
                  <a:pt x="2137" y="13654"/>
                  <a:pt x="2186" y="13447"/>
                  <a:pt x="2183" y="13320"/>
                </a:cubicBezTo>
                <a:cubicBezTo>
                  <a:pt x="2157" y="13242"/>
                  <a:pt x="2145" y="13216"/>
                  <a:pt x="2084" y="13196"/>
                </a:cubicBezTo>
              </a:path>
              <a:path w="671" h="547">
                <a:moveTo>
                  <a:pt x="1612" y="13543"/>
                </a:moveTo>
                <a:cubicBezTo>
                  <a:pt x="1704" y="13565"/>
                  <a:pt x="1791" y="13584"/>
                  <a:pt x="1885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77920" y="4741920"/>
            <a:ext cx="250920" cy="206280"/>
          </a:xfrm>
          <a:custGeom>
            <a:avLst/>
            <a:gdLst/>
            <a:ahLst/>
            <a:rect l="l" t="t" r="r" b="b"/>
            <a:pathLst>
              <a:path w="696" h="572">
                <a:moveTo>
                  <a:pt x="3423" y="13221"/>
                </a:moveTo>
                <a:cubicBezTo>
                  <a:pt x="3384" y="13376"/>
                  <a:pt x="3305" y="13516"/>
                  <a:pt x="3274" y="13667"/>
                </a:cubicBezTo>
                <a:cubicBezTo>
                  <a:pt x="3428" y="13731"/>
                  <a:pt x="3549" y="13684"/>
                  <a:pt x="3671" y="13543"/>
                </a:cubicBezTo>
                <a:cubicBezTo>
                  <a:pt x="3679" y="13527"/>
                  <a:pt x="3688" y="13510"/>
                  <a:pt x="3696" y="13494"/>
                </a:cubicBezTo>
                <a:cubicBezTo>
                  <a:pt x="3556" y="13476"/>
                  <a:pt x="3423" y="13473"/>
                  <a:pt x="3423" y="13667"/>
                </a:cubicBezTo>
                <a:cubicBezTo>
                  <a:pt x="3445" y="13732"/>
                  <a:pt x="3443" y="13757"/>
                  <a:pt x="3497" y="13742"/>
                </a:cubicBezTo>
              </a:path>
              <a:path w="696" h="572">
                <a:moveTo>
                  <a:pt x="3944" y="13171"/>
                </a:moveTo>
                <a:cubicBezTo>
                  <a:pt x="3794" y="13271"/>
                  <a:pt x="3736" y="13382"/>
                  <a:pt x="3746" y="13568"/>
                </a:cubicBezTo>
                <a:cubicBezTo>
                  <a:pt x="3754" y="13585"/>
                  <a:pt x="3762" y="13601"/>
                  <a:pt x="3770" y="13618"/>
                </a:cubicBezTo>
                <a:cubicBezTo>
                  <a:pt x="3882" y="13584"/>
                  <a:pt x="4083" y="13429"/>
                  <a:pt x="3944" y="13271"/>
                </a:cubicBezTo>
                <a:cubicBezTo>
                  <a:pt x="3911" y="13263"/>
                  <a:pt x="3878" y="13254"/>
                  <a:pt x="3845" y="132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7840" y="4732200"/>
            <a:ext cx="849240" cy="492120"/>
          </a:xfrm>
          <a:custGeom>
            <a:avLst/>
            <a:gdLst/>
            <a:ahLst/>
            <a:rect l="l" t="t" r="r" b="b"/>
            <a:pathLst>
              <a:path w="2358" h="1366">
                <a:moveTo>
                  <a:pt x="645" y="13171"/>
                </a:moveTo>
                <a:cubicBezTo>
                  <a:pt x="729" y="13164"/>
                  <a:pt x="809" y="13153"/>
                  <a:pt x="893" y="13146"/>
                </a:cubicBezTo>
                <a:cubicBezTo>
                  <a:pt x="878" y="13298"/>
                  <a:pt x="831" y="13305"/>
                  <a:pt x="719" y="13395"/>
                </a:cubicBezTo>
                <a:cubicBezTo>
                  <a:pt x="860" y="13418"/>
                  <a:pt x="942" y="13497"/>
                  <a:pt x="819" y="13643"/>
                </a:cubicBezTo>
                <a:cubicBezTo>
                  <a:pt x="719" y="13717"/>
                  <a:pt x="686" y="13742"/>
                  <a:pt x="595" y="13717"/>
                </a:cubicBezTo>
              </a:path>
              <a:path w="2358" h="1366">
                <a:moveTo>
                  <a:pt x="496" y="13915"/>
                </a:moveTo>
                <a:cubicBezTo>
                  <a:pt x="698" y="13865"/>
                  <a:pt x="840" y="13833"/>
                  <a:pt x="1042" y="13841"/>
                </a:cubicBezTo>
              </a:path>
              <a:path w="2358" h="1366">
                <a:moveTo>
                  <a:pt x="744" y="14089"/>
                </a:moveTo>
                <a:cubicBezTo>
                  <a:pt x="643" y="14147"/>
                  <a:pt x="620" y="14137"/>
                  <a:pt x="595" y="14238"/>
                </a:cubicBezTo>
                <a:cubicBezTo>
                  <a:pt x="671" y="14329"/>
                  <a:pt x="766" y="14242"/>
                  <a:pt x="868" y="14312"/>
                </a:cubicBezTo>
                <a:cubicBezTo>
                  <a:pt x="1042" y="14431"/>
                  <a:pt x="789" y="14491"/>
                  <a:pt x="719" y="14486"/>
                </a:cubicBezTo>
              </a:path>
              <a:path w="2358" h="1366">
                <a:moveTo>
                  <a:pt x="620" y="14089"/>
                </a:moveTo>
                <a:cubicBezTo>
                  <a:pt x="740" y="14041"/>
                  <a:pt x="866" y="14020"/>
                  <a:pt x="992" y="13990"/>
                </a:cubicBezTo>
              </a:path>
              <a:path w="2358" h="1366">
                <a:moveTo>
                  <a:pt x="1290" y="13767"/>
                </a:moveTo>
                <a:cubicBezTo>
                  <a:pt x="1342" y="13857"/>
                  <a:pt x="1392" y="13946"/>
                  <a:pt x="1439" y="14039"/>
                </a:cubicBezTo>
              </a:path>
              <a:path w="2358" h="1366">
                <a:moveTo>
                  <a:pt x="1414" y="13742"/>
                </a:moveTo>
                <a:cubicBezTo>
                  <a:pt x="1346" y="13866"/>
                  <a:pt x="1293" y="13982"/>
                  <a:pt x="1240" y="14114"/>
                </a:cubicBezTo>
              </a:path>
              <a:path w="2358" h="1366">
                <a:moveTo>
                  <a:pt x="1687" y="13891"/>
                </a:moveTo>
                <a:cubicBezTo>
                  <a:pt x="1759" y="13869"/>
                  <a:pt x="1792" y="13861"/>
                  <a:pt x="1860" y="13891"/>
                </a:cubicBezTo>
                <a:cubicBezTo>
                  <a:pt x="1822" y="13999"/>
                  <a:pt x="1750" y="14092"/>
                  <a:pt x="1712" y="14188"/>
                </a:cubicBezTo>
                <a:cubicBezTo>
                  <a:pt x="1786" y="14188"/>
                  <a:pt x="1827" y="14188"/>
                  <a:pt x="1885" y="14188"/>
                </a:cubicBezTo>
              </a:path>
              <a:path w="2358" h="1366">
                <a:moveTo>
                  <a:pt x="2158" y="13915"/>
                </a:moveTo>
                <a:cubicBezTo>
                  <a:pt x="2088" y="14056"/>
                  <a:pt x="2062" y="14087"/>
                  <a:pt x="2084" y="14238"/>
                </a:cubicBezTo>
                <a:cubicBezTo>
                  <a:pt x="2151" y="14225"/>
                  <a:pt x="2437" y="14151"/>
                  <a:pt x="2307" y="14015"/>
                </a:cubicBezTo>
                <a:cubicBezTo>
                  <a:pt x="2274" y="13998"/>
                  <a:pt x="2241" y="13982"/>
                  <a:pt x="2208" y="13965"/>
                </a:cubicBezTo>
              </a:path>
              <a:path w="2358" h="1366">
                <a:moveTo>
                  <a:pt x="2629" y="13742"/>
                </a:moveTo>
                <a:cubicBezTo>
                  <a:pt x="2744" y="13719"/>
                  <a:pt x="2777" y="13710"/>
                  <a:pt x="2853" y="13717"/>
                </a:cubicBezTo>
              </a:path>
              <a:path w="2358" h="1366">
                <a:moveTo>
                  <a:pt x="2629" y="13891"/>
                </a:moveTo>
                <a:cubicBezTo>
                  <a:pt x="2729" y="13915"/>
                  <a:pt x="2762" y="13923"/>
                  <a:pt x="2828" y="138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4938840"/>
            <a:ext cx="376560" cy="258480"/>
          </a:xfrm>
          <a:custGeom>
            <a:avLst/>
            <a:gdLst/>
            <a:ahLst/>
            <a:rect l="l" t="t" r="r" b="b"/>
            <a:pathLst>
              <a:path w="1043" h="720">
                <a:moveTo>
                  <a:pt x="3324" y="14015"/>
                </a:moveTo>
                <a:cubicBezTo>
                  <a:pt x="3309" y="14158"/>
                  <a:pt x="3299" y="14292"/>
                  <a:pt x="3299" y="14436"/>
                </a:cubicBezTo>
              </a:path>
              <a:path w="1043" h="720">
                <a:moveTo>
                  <a:pt x="3597" y="14064"/>
                </a:moveTo>
                <a:cubicBezTo>
                  <a:pt x="3582" y="14232"/>
                  <a:pt x="3573" y="14514"/>
                  <a:pt x="3845" y="14337"/>
                </a:cubicBezTo>
                <a:cubicBezTo>
                  <a:pt x="4028" y="14218"/>
                  <a:pt x="3928" y="14081"/>
                  <a:pt x="3795" y="14015"/>
                </a:cubicBezTo>
              </a:path>
              <a:path w="1043" h="720">
                <a:moveTo>
                  <a:pt x="4167" y="13940"/>
                </a:moveTo>
                <a:cubicBezTo>
                  <a:pt x="4113" y="14036"/>
                  <a:pt x="4084" y="14105"/>
                  <a:pt x="4068" y="14213"/>
                </a:cubicBezTo>
                <a:cubicBezTo>
                  <a:pt x="4176" y="14244"/>
                  <a:pt x="4447" y="14203"/>
                  <a:pt x="4341" y="13990"/>
                </a:cubicBezTo>
                <a:cubicBezTo>
                  <a:pt x="4308" y="13965"/>
                  <a:pt x="4275" y="13940"/>
                  <a:pt x="4242" y="13915"/>
                </a:cubicBezTo>
              </a:path>
              <a:path w="1043" h="720">
                <a:moveTo>
                  <a:pt x="3349" y="13742"/>
                </a:moveTo>
                <a:cubicBezTo>
                  <a:pt x="3590" y="13742"/>
                  <a:pt x="3828" y="13726"/>
                  <a:pt x="4068" y="137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62080" y="4321080"/>
            <a:ext cx="465120" cy="179640"/>
          </a:xfrm>
          <a:custGeom>
            <a:avLst/>
            <a:gdLst/>
            <a:ahLst/>
            <a:rect l="l" t="t" r="r" b="b"/>
            <a:pathLst>
              <a:path w="1291" h="498">
                <a:moveTo>
                  <a:pt x="5779" y="12353"/>
                </a:moveTo>
                <a:cubicBezTo>
                  <a:pt x="5739" y="12434"/>
                  <a:pt x="5723" y="12447"/>
                  <a:pt x="5730" y="12502"/>
                </a:cubicBezTo>
                <a:cubicBezTo>
                  <a:pt x="5807" y="12459"/>
                  <a:pt x="5846" y="12458"/>
                  <a:pt x="5755" y="12427"/>
                </a:cubicBezTo>
              </a:path>
              <a:path w="1291" h="498">
                <a:moveTo>
                  <a:pt x="6251" y="12005"/>
                </a:moveTo>
                <a:cubicBezTo>
                  <a:pt x="6189" y="12102"/>
                  <a:pt x="6044" y="12271"/>
                  <a:pt x="6102" y="12402"/>
                </a:cubicBezTo>
                <a:cubicBezTo>
                  <a:pt x="6198" y="12617"/>
                  <a:pt x="6434" y="12378"/>
                  <a:pt x="6524" y="12303"/>
                </a:cubicBezTo>
                <a:cubicBezTo>
                  <a:pt x="6532" y="12278"/>
                  <a:pt x="6540" y="12254"/>
                  <a:pt x="6548" y="12229"/>
                </a:cubicBezTo>
                <a:cubicBezTo>
                  <a:pt x="6388" y="12221"/>
                  <a:pt x="6276" y="12216"/>
                  <a:pt x="6251" y="12402"/>
                </a:cubicBezTo>
                <a:cubicBezTo>
                  <a:pt x="6251" y="12460"/>
                  <a:pt x="6259" y="12477"/>
                  <a:pt x="6325" y="12452"/>
                </a:cubicBezTo>
              </a:path>
              <a:path w="1291" h="498">
                <a:moveTo>
                  <a:pt x="6846" y="12005"/>
                </a:moveTo>
                <a:cubicBezTo>
                  <a:pt x="6712" y="12042"/>
                  <a:pt x="6629" y="12190"/>
                  <a:pt x="6672" y="12353"/>
                </a:cubicBezTo>
                <a:cubicBezTo>
                  <a:pt x="6725" y="12558"/>
                  <a:pt x="6979" y="12386"/>
                  <a:pt x="7020" y="12278"/>
                </a:cubicBezTo>
                <a:cubicBezTo>
                  <a:pt x="7072" y="12141"/>
                  <a:pt x="6971" y="12070"/>
                  <a:pt x="6871" y="120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87760" y="4286160"/>
            <a:ext cx="71280" cy="374760"/>
          </a:xfrm>
          <a:custGeom>
            <a:avLst/>
            <a:gdLst/>
            <a:ahLst/>
            <a:rect l="l" t="t" r="r" b="b"/>
            <a:pathLst>
              <a:path w="200" h="1043">
                <a:moveTo>
                  <a:pt x="7565" y="11906"/>
                </a:moveTo>
                <a:cubicBezTo>
                  <a:pt x="7469" y="11962"/>
                  <a:pt x="7530" y="11989"/>
                  <a:pt x="7516" y="11906"/>
                </a:cubicBezTo>
              </a:path>
              <a:path w="200" h="1043">
                <a:moveTo>
                  <a:pt x="7565" y="12427"/>
                </a:moveTo>
                <a:cubicBezTo>
                  <a:pt x="7623" y="12557"/>
                  <a:pt x="7760" y="12795"/>
                  <a:pt x="7615" y="12923"/>
                </a:cubicBezTo>
                <a:cubicBezTo>
                  <a:pt x="7531" y="12944"/>
                  <a:pt x="7512" y="12959"/>
                  <a:pt x="7466" y="129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84320" y="4241880"/>
            <a:ext cx="554040" cy="339480"/>
          </a:xfrm>
          <a:custGeom>
            <a:avLst/>
            <a:gdLst/>
            <a:ahLst/>
            <a:rect l="l" t="t" r="r" b="b"/>
            <a:pathLst>
              <a:path w="1539" h="944">
                <a:moveTo>
                  <a:pt x="8086" y="11981"/>
                </a:moveTo>
                <a:cubicBezTo>
                  <a:pt x="8139" y="11875"/>
                  <a:pt x="8179" y="11835"/>
                  <a:pt x="8285" y="11782"/>
                </a:cubicBezTo>
                <a:cubicBezTo>
                  <a:pt x="8442" y="11861"/>
                  <a:pt x="8388" y="12023"/>
                  <a:pt x="8310" y="12179"/>
                </a:cubicBezTo>
                <a:cubicBezTo>
                  <a:pt x="8218" y="12362"/>
                  <a:pt x="8109" y="12542"/>
                  <a:pt x="8012" y="12725"/>
                </a:cubicBezTo>
                <a:cubicBezTo>
                  <a:pt x="8113" y="12649"/>
                  <a:pt x="8218" y="12494"/>
                  <a:pt x="8359" y="12526"/>
                </a:cubicBezTo>
                <a:cubicBezTo>
                  <a:pt x="8416" y="12539"/>
                  <a:pt x="8468" y="12611"/>
                  <a:pt x="8508" y="12650"/>
                </a:cubicBezTo>
              </a:path>
              <a:path w="1539" h="944">
                <a:moveTo>
                  <a:pt x="8830" y="12452"/>
                </a:moveTo>
                <a:cubicBezTo>
                  <a:pt x="8701" y="12433"/>
                  <a:pt x="8769" y="12565"/>
                  <a:pt x="8855" y="12502"/>
                </a:cubicBezTo>
                <a:cubicBezTo>
                  <a:pt x="8879" y="12454"/>
                  <a:pt x="8887" y="12439"/>
                  <a:pt x="8880" y="12402"/>
                </a:cubicBezTo>
                <a:cubicBezTo>
                  <a:pt x="8859" y="12412"/>
                  <a:pt x="8711" y="12525"/>
                  <a:pt x="8855" y="12526"/>
                </a:cubicBezTo>
                <a:cubicBezTo>
                  <a:pt x="8905" y="12502"/>
                  <a:pt x="8922" y="12494"/>
                  <a:pt x="8930" y="12452"/>
                </a:cubicBezTo>
                <a:cubicBezTo>
                  <a:pt x="8822" y="12469"/>
                  <a:pt x="8826" y="12426"/>
                  <a:pt x="8806" y="12526"/>
                </a:cubicBezTo>
              </a:path>
              <a:path w="1539" h="944">
                <a:moveTo>
                  <a:pt x="9475" y="11906"/>
                </a:moveTo>
                <a:cubicBezTo>
                  <a:pt x="9541" y="11776"/>
                  <a:pt x="9464" y="11743"/>
                  <a:pt x="9327" y="11807"/>
                </a:cubicBezTo>
                <a:cubicBezTo>
                  <a:pt x="9242" y="11870"/>
                  <a:pt x="9221" y="11882"/>
                  <a:pt x="9178" y="11931"/>
                </a:cubicBezTo>
                <a:cubicBezTo>
                  <a:pt x="9272" y="12083"/>
                  <a:pt x="9431" y="12077"/>
                  <a:pt x="9525" y="12204"/>
                </a:cubicBezTo>
                <a:cubicBezTo>
                  <a:pt x="9611" y="12320"/>
                  <a:pt x="9478" y="12470"/>
                  <a:pt x="9351" y="12452"/>
                </a:cubicBezTo>
                <a:cubicBezTo>
                  <a:pt x="9318" y="12435"/>
                  <a:pt x="9285" y="12419"/>
                  <a:pt x="9252" y="12402"/>
                </a:cubicBezTo>
                <a:cubicBezTo>
                  <a:pt x="9201" y="12171"/>
                  <a:pt x="9296" y="12143"/>
                  <a:pt x="9426" y="11956"/>
                </a:cubicBezTo>
                <a:cubicBezTo>
                  <a:pt x="9456" y="11912"/>
                  <a:pt x="9451" y="11881"/>
                  <a:pt x="9451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97200" y="4321080"/>
            <a:ext cx="160560" cy="438120"/>
          </a:xfrm>
          <a:custGeom>
            <a:avLst/>
            <a:gdLst/>
            <a:ahLst/>
            <a:rect l="l" t="t" r="r" b="b"/>
            <a:pathLst>
              <a:path w="448" h="1217">
                <a:moveTo>
                  <a:pt x="10418" y="12080"/>
                </a:moveTo>
                <a:cubicBezTo>
                  <a:pt x="10406" y="12060"/>
                  <a:pt x="10294" y="11922"/>
                  <a:pt x="10269" y="12030"/>
                </a:cubicBezTo>
                <a:cubicBezTo>
                  <a:pt x="10247" y="12128"/>
                  <a:pt x="10415" y="12056"/>
                  <a:pt x="10418" y="12055"/>
                </a:cubicBezTo>
                <a:cubicBezTo>
                  <a:pt x="10418" y="12012"/>
                  <a:pt x="10401" y="11998"/>
                  <a:pt x="10344" y="12005"/>
                </a:cubicBezTo>
              </a:path>
              <a:path w="448" h="1217">
                <a:moveTo>
                  <a:pt x="10641" y="12650"/>
                </a:moveTo>
                <a:cubicBezTo>
                  <a:pt x="10762" y="12931"/>
                  <a:pt x="10692" y="12993"/>
                  <a:pt x="10492" y="132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06880" y="4249800"/>
            <a:ext cx="608040" cy="304560"/>
          </a:xfrm>
          <a:custGeom>
            <a:avLst/>
            <a:gdLst/>
            <a:ahLst/>
            <a:rect l="l" t="t" r="r" b="b"/>
            <a:pathLst>
              <a:path w="1688" h="844">
                <a:moveTo>
                  <a:pt x="11410" y="12601"/>
                </a:moveTo>
                <a:cubicBezTo>
                  <a:pt x="11432" y="12729"/>
                  <a:pt x="11492" y="12538"/>
                  <a:pt x="11435" y="12650"/>
                </a:cubicBezTo>
              </a:path>
              <a:path w="1688" h="844">
                <a:moveTo>
                  <a:pt x="11906" y="12154"/>
                </a:moveTo>
                <a:cubicBezTo>
                  <a:pt x="11777" y="12154"/>
                  <a:pt x="11733" y="12156"/>
                  <a:pt x="11708" y="12303"/>
                </a:cubicBezTo>
                <a:cubicBezTo>
                  <a:pt x="11708" y="12328"/>
                  <a:pt x="11708" y="12353"/>
                  <a:pt x="11708" y="12378"/>
                </a:cubicBezTo>
                <a:cubicBezTo>
                  <a:pt x="11849" y="12364"/>
                  <a:pt x="11972" y="12289"/>
                  <a:pt x="12105" y="12378"/>
                </a:cubicBezTo>
                <a:cubicBezTo>
                  <a:pt x="12307" y="12513"/>
                  <a:pt x="11957" y="12589"/>
                  <a:pt x="11906" y="12601"/>
                </a:cubicBezTo>
              </a:path>
              <a:path w="1688" h="844">
                <a:moveTo>
                  <a:pt x="12477" y="12055"/>
                </a:moveTo>
                <a:cubicBezTo>
                  <a:pt x="12353" y="12080"/>
                  <a:pt x="12281" y="12129"/>
                  <a:pt x="12204" y="12229"/>
                </a:cubicBezTo>
                <a:cubicBezTo>
                  <a:pt x="12274" y="12281"/>
                  <a:pt x="12562" y="12398"/>
                  <a:pt x="12526" y="12526"/>
                </a:cubicBezTo>
                <a:cubicBezTo>
                  <a:pt x="12453" y="12599"/>
                  <a:pt x="12431" y="12624"/>
                  <a:pt x="12353" y="12601"/>
                </a:cubicBezTo>
                <a:cubicBezTo>
                  <a:pt x="12332" y="12427"/>
                  <a:pt x="12364" y="12333"/>
                  <a:pt x="12452" y="12179"/>
                </a:cubicBezTo>
              </a:path>
              <a:path w="1688" h="844">
                <a:moveTo>
                  <a:pt x="12650" y="12105"/>
                </a:moveTo>
                <a:cubicBezTo>
                  <a:pt x="12709" y="12097"/>
                  <a:pt x="13075" y="12015"/>
                  <a:pt x="13022" y="12179"/>
                </a:cubicBezTo>
                <a:cubicBezTo>
                  <a:pt x="12964" y="12239"/>
                  <a:pt x="12935" y="12261"/>
                  <a:pt x="12874" y="12278"/>
                </a:cubicBezTo>
                <a:cubicBezTo>
                  <a:pt x="13013" y="12296"/>
                  <a:pt x="13024" y="12288"/>
                  <a:pt x="13097" y="12402"/>
                </a:cubicBezTo>
                <a:cubicBezTo>
                  <a:pt x="13014" y="12580"/>
                  <a:pt x="12923" y="12631"/>
                  <a:pt x="12725" y="12526"/>
                </a:cubicBezTo>
                <a:cubicBezTo>
                  <a:pt x="12708" y="12510"/>
                  <a:pt x="12692" y="12493"/>
                  <a:pt x="12675" y="12477"/>
                </a:cubicBezTo>
              </a:path>
              <a:path w="1688" h="844">
                <a:moveTo>
                  <a:pt x="12725" y="11857"/>
                </a:moveTo>
                <a:cubicBezTo>
                  <a:pt x="12717" y="11840"/>
                  <a:pt x="12708" y="11824"/>
                  <a:pt x="12700" y="11807"/>
                </a:cubicBezTo>
              </a:path>
              <a:path w="1688" h="844">
                <a:moveTo>
                  <a:pt x="12650" y="11807"/>
                </a:moveTo>
                <a:cubicBezTo>
                  <a:pt x="12768" y="11818"/>
                  <a:pt x="12883" y="11842"/>
                  <a:pt x="12998" y="11857"/>
                </a:cubicBezTo>
                <a:cubicBezTo>
                  <a:pt x="13014" y="11857"/>
                  <a:pt x="13031" y="11857"/>
                  <a:pt x="13047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46760" y="4402080"/>
            <a:ext cx="81000" cy="420840"/>
          </a:xfrm>
          <a:custGeom>
            <a:avLst/>
            <a:gdLst/>
            <a:ahLst/>
            <a:rect l="l" t="t" r="r" b="b"/>
            <a:pathLst>
              <a:path w="224" h="1167">
                <a:moveTo>
                  <a:pt x="13915" y="12229"/>
                </a:moveTo>
                <a:cubicBezTo>
                  <a:pt x="13915" y="12287"/>
                  <a:pt x="13915" y="12312"/>
                  <a:pt x="13915" y="12353"/>
                </a:cubicBezTo>
              </a:path>
              <a:path w="224" h="1167">
                <a:moveTo>
                  <a:pt x="13965" y="12874"/>
                </a:moveTo>
                <a:cubicBezTo>
                  <a:pt x="13923" y="13143"/>
                  <a:pt x="13914" y="13197"/>
                  <a:pt x="13742" y="133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9240" y="4249800"/>
            <a:ext cx="893880" cy="304560"/>
          </a:xfrm>
          <a:custGeom>
            <a:avLst/>
            <a:gdLst/>
            <a:ahLst/>
            <a:rect l="l" t="t" r="r" b="b"/>
            <a:pathLst>
              <a:path w="2481" h="844">
                <a:moveTo>
                  <a:pt x="14709" y="12030"/>
                </a:moveTo>
                <a:cubicBezTo>
                  <a:pt x="14697" y="11921"/>
                  <a:pt x="14759" y="11841"/>
                  <a:pt x="14883" y="11807"/>
                </a:cubicBezTo>
                <a:cubicBezTo>
                  <a:pt x="15032" y="11766"/>
                  <a:pt x="15007" y="12070"/>
                  <a:pt x="14982" y="12129"/>
                </a:cubicBezTo>
                <a:cubicBezTo>
                  <a:pt x="14907" y="12306"/>
                  <a:pt x="14729" y="12432"/>
                  <a:pt x="14635" y="12601"/>
                </a:cubicBezTo>
                <a:cubicBezTo>
                  <a:pt x="14589" y="12683"/>
                  <a:pt x="14705" y="12484"/>
                  <a:pt x="14833" y="12477"/>
                </a:cubicBezTo>
                <a:cubicBezTo>
                  <a:pt x="14917" y="12473"/>
                  <a:pt x="14968" y="12536"/>
                  <a:pt x="15032" y="12576"/>
                </a:cubicBezTo>
              </a:path>
              <a:path w="2481" h="844">
                <a:moveTo>
                  <a:pt x="15478" y="12402"/>
                </a:moveTo>
                <a:cubicBezTo>
                  <a:pt x="15400" y="12474"/>
                  <a:pt x="15375" y="12494"/>
                  <a:pt x="15354" y="12601"/>
                </a:cubicBezTo>
                <a:cubicBezTo>
                  <a:pt x="15415" y="12558"/>
                  <a:pt x="15430" y="12567"/>
                  <a:pt x="15404" y="12502"/>
                </a:cubicBezTo>
              </a:path>
              <a:path w="2481" h="844">
                <a:moveTo>
                  <a:pt x="15503" y="12626"/>
                </a:moveTo>
                <a:cubicBezTo>
                  <a:pt x="15468" y="12626"/>
                  <a:pt x="15451" y="12621"/>
                  <a:pt x="15429" y="12601"/>
                </a:cubicBezTo>
              </a:path>
              <a:path w="2481" h="844">
                <a:moveTo>
                  <a:pt x="15925" y="12229"/>
                </a:moveTo>
                <a:cubicBezTo>
                  <a:pt x="15945" y="12152"/>
                  <a:pt x="15985" y="12092"/>
                  <a:pt x="15900" y="12055"/>
                </a:cubicBezTo>
                <a:cubicBezTo>
                  <a:pt x="15780" y="12003"/>
                  <a:pt x="15704" y="12074"/>
                  <a:pt x="15602" y="12129"/>
                </a:cubicBezTo>
                <a:cubicBezTo>
                  <a:pt x="15738" y="12293"/>
                  <a:pt x="15981" y="12236"/>
                  <a:pt x="16123" y="12378"/>
                </a:cubicBezTo>
                <a:cubicBezTo>
                  <a:pt x="16123" y="12403"/>
                  <a:pt x="16123" y="12427"/>
                  <a:pt x="16123" y="12452"/>
                </a:cubicBezTo>
                <a:cubicBezTo>
                  <a:pt x="16022" y="12517"/>
                  <a:pt x="15759" y="12604"/>
                  <a:pt x="15825" y="12353"/>
                </a:cubicBezTo>
                <a:cubicBezTo>
                  <a:pt x="15859" y="12225"/>
                  <a:pt x="16118" y="12101"/>
                  <a:pt x="15949" y="12080"/>
                </a:cubicBezTo>
              </a:path>
              <a:path w="2481" h="844">
                <a:moveTo>
                  <a:pt x="16197" y="12030"/>
                </a:moveTo>
                <a:cubicBezTo>
                  <a:pt x="16317" y="11976"/>
                  <a:pt x="16469" y="11868"/>
                  <a:pt x="16520" y="12055"/>
                </a:cubicBezTo>
                <a:cubicBezTo>
                  <a:pt x="16554" y="12179"/>
                  <a:pt x="16496" y="12331"/>
                  <a:pt x="16470" y="12452"/>
                </a:cubicBezTo>
              </a:path>
              <a:path w="2481" h="844">
                <a:moveTo>
                  <a:pt x="16966" y="11956"/>
                </a:moveTo>
                <a:cubicBezTo>
                  <a:pt x="16825" y="11934"/>
                  <a:pt x="16732" y="11913"/>
                  <a:pt x="16694" y="12080"/>
                </a:cubicBezTo>
                <a:cubicBezTo>
                  <a:pt x="16694" y="12113"/>
                  <a:pt x="16694" y="12146"/>
                  <a:pt x="16694" y="12179"/>
                </a:cubicBezTo>
                <a:cubicBezTo>
                  <a:pt x="16760" y="12246"/>
                  <a:pt x="16859" y="12129"/>
                  <a:pt x="16966" y="12129"/>
                </a:cubicBezTo>
                <a:cubicBezTo>
                  <a:pt x="17116" y="12129"/>
                  <a:pt x="17127" y="12366"/>
                  <a:pt x="16991" y="12402"/>
                </a:cubicBezTo>
                <a:cubicBezTo>
                  <a:pt x="16841" y="12402"/>
                  <a:pt x="16806" y="12407"/>
                  <a:pt x="16718" y="123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24080" y="5180040"/>
            <a:ext cx="1035000" cy="480960"/>
          </a:xfrm>
          <a:custGeom>
            <a:avLst/>
            <a:gdLst/>
            <a:ahLst/>
            <a:rect l="l" t="t" r="r" b="b"/>
            <a:pathLst>
              <a:path w="2879" h="1340">
                <a:moveTo>
                  <a:pt x="6548" y="14833"/>
                </a:moveTo>
                <a:cubicBezTo>
                  <a:pt x="6498" y="14884"/>
                  <a:pt x="6482" y="14899"/>
                  <a:pt x="6499" y="14808"/>
                </a:cubicBezTo>
                <a:cubicBezTo>
                  <a:pt x="6783" y="14720"/>
                  <a:pt x="6837" y="15115"/>
                  <a:pt x="6722" y="15379"/>
                </a:cubicBezTo>
                <a:cubicBezTo>
                  <a:pt x="6545" y="15784"/>
                  <a:pt x="6293" y="15753"/>
                  <a:pt x="6176" y="15429"/>
                </a:cubicBezTo>
                <a:cubicBezTo>
                  <a:pt x="6401" y="15363"/>
                  <a:pt x="6695" y="15353"/>
                  <a:pt x="6821" y="15627"/>
                </a:cubicBezTo>
                <a:cubicBezTo>
                  <a:pt x="6821" y="15660"/>
                  <a:pt x="6821" y="15693"/>
                  <a:pt x="6821" y="15726"/>
                </a:cubicBezTo>
              </a:path>
              <a:path w="2879" h="1340">
                <a:moveTo>
                  <a:pt x="7094" y="15528"/>
                </a:moveTo>
                <a:lnTo>
                  <a:pt x="7094" y="15528"/>
                </a:lnTo>
              </a:path>
              <a:path w="2879" h="1340">
                <a:moveTo>
                  <a:pt x="7789" y="14486"/>
                </a:moveTo>
                <a:cubicBezTo>
                  <a:pt x="7580" y="14587"/>
                  <a:pt x="7455" y="14689"/>
                  <a:pt x="7293" y="14858"/>
                </a:cubicBezTo>
                <a:cubicBezTo>
                  <a:pt x="7446" y="15083"/>
                  <a:pt x="7672" y="15105"/>
                  <a:pt x="7838" y="15304"/>
                </a:cubicBezTo>
                <a:cubicBezTo>
                  <a:pt x="7494" y="15516"/>
                  <a:pt x="7536" y="15199"/>
                  <a:pt x="7615" y="14908"/>
                </a:cubicBezTo>
                <a:cubicBezTo>
                  <a:pt x="7667" y="14768"/>
                  <a:pt x="7692" y="14764"/>
                  <a:pt x="7689" y="14684"/>
                </a:cubicBezTo>
              </a:path>
              <a:path w="2879" h="1340">
                <a:moveTo>
                  <a:pt x="8012" y="14660"/>
                </a:moveTo>
                <a:cubicBezTo>
                  <a:pt x="8039" y="14871"/>
                  <a:pt x="7950" y="14647"/>
                  <a:pt x="7962" y="14585"/>
                </a:cubicBezTo>
                <a:cubicBezTo>
                  <a:pt x="7971" y="14542"/>
                  <a:pt x="8295" y="14431"/>
                  <a:pt x="8359" y="14387"/>
                </a:cubicBezTo>
                <a:cubicBezTo>
                  <a:pt x="8351" y="14680"/>
                  <a:pt x="8337" y="14967"/>
                  <a:pt x="8285" y="15255"/>
                </a:cubicBezTo>
              </a:path>
              <a:path w="2879" h="1340">
                <a:moveTo>
                  <a:pt x="8930" y="14461"/>
                </a:moveTo>
                <a:cubicBezTo>
                  <a:pt x="8883" y="14457"/>
                  <a:pt x="8759" y="14405"/>
                  <a:pt x="8731" y="14461"/>
                </a:cubicBezTo>
                <a:cubicBezTo>
                  <a:pt x="8678" y="14567"/>
                  <a:pt x="8641" y="14680"/>
                  <a:pt x="8582" y="14784"/>
                </a:cubicBezTo>
                <a:cubicBezTo>
                  <a:pt x="8737" y="14727"/>
                  <a:pt x="8911" y="14646"/>
                  <a:pt x="9029" y="14833"/>
                </a:cubicBezTo>
                <a:cubicBezTo>
                  <a:pt x="9174" y="15062"/>
                  <a:pt x="8862" y="15238"/>
                  <a:pt x="8682" y="15255"/>
                </a:cubicBezTo>
                <a:cubicBezTo>
                  <a:pt x="8566" y="15232"/>
                  <a:pt x="8527" y="15231"/>
                  <a:pt x="8533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02000" y="5153040"/>
            <a:ext cx="142920" cy="554040"/>
          </a:xfrm>
          <a:custGeom>
            <a:avLst/>
            <a:gdLst/>
            <a:ahLst/>
            <a:rect l="l" t="t" r="r" b="b"/>
            <a:pathLst>
              <a:path w="397" h="1539">
                <a:moveTo>
                  <a:pt x="9475" y="14337"/>
                </a:moveTo>
                <a:cubicBezTo>
                  <a:pt x="9424" y="14547"/>
                  <a:pt x="9547" y="14392"/>
                  <a:pt x="9599" y="14312"/>
                </a:cubicBezTo>
              </a:path>
              <a:path w="397" h="1539">
                <a:moveTo>
                  <a:pt x="9773" y="15180"/>
                </a:moveTo>
                <a:cubicBezTo>
                  <a:pt x="9840" y="15514"/>
                  <a:pt x="9852" y="15554"/>
                  <a:pt x="9699" y="158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41840" y="5160960"/>
            <a:ext cx="946080" cy="455760"/>
          </a:xfrm>
          <a:custGeom>
            <a:avLst/>
            <a:gdLst/>
            <a:ahLst/>
            <a:rect l="l" t="t" r="r" b="b"/>
            <a:pathLst>
              <a:path w="2630" h="1266">
                <a:moveTo>
                  <a:pt x="10740" y="14337"/>
                </a:moveTo>
                <a:cubicBezTo>
                  <a:pt x="10708" y="14404"/>
                  <a:pt x="10692" y="14437"/>
                  <a:pt x="10666" y="14486"/>
                </a:cubicBezTo>
                <a:cubicBezTo>
                  <a:pt x="10574" y="14547"/>
                  <a:pt x="10776" y="14303"/>
                  <a:pt x="10864" y="14362"/>
                </a:cubicBezTo>
                <a:cubicBezTo>
                  <a:pt x="11113" y="14530"/>
                  <a:pt x="10722" y="15165"/>
                  <a:pt x="10517" y="15230"/>
                </a:cubicBezTo>
                <a:cubicBezTo>
                  <a:pt x="10476" y="15213"/>
                  <a:pt x="10434" y="15197"/>
                  <a:pt x="10393" y="15180"/>
                </a:cubicBezTo>
                <a:cubicBezTo>
                  <a:pt x="10426" y="14982"/>
                  <a:pt x="10585" y="14865"/>
                  <a:pt x="10790" y="15056"/>
                </a:cubicBezTo>
                <a:cubicBezTo>
                  <a:pt x="10862" y="15200"/>
                  <a:pt x="10886" y="15245"/>
                  <a:pt x="10889" y="15354"/>
                </a:cubicBezTo>
              </a:path>
              <a:path w="2630" h="1266">
                <a:moveTo>
                  <a:pt x="11212" y="15081"/>
                </a:moveTo>
                <a:cubicBezTo>
                  <a:pt x="11212" y="15098"/>
                  <a:pt x="11212" y="15114"/>
                  <a:pt x="11212" y="15131"/>
                </a:cubicBezTo>
              </a:path>
              <a:path w="2630" h="1266">
                <a:moveTo>
                  <a:pt x="11757" y="14362"/>
                </a:moveTo>
                <a:cubicBezTo>
                  <a:pt x="11571" y="14519"/>
                  <a:pt x="11434" y="14562"/>
                  <a:pt x="11633" y="14734"/>
                </a:cubicBezTo>
                <a:cubicBezTo>
                  <a:pt x="11848" y="14920"/>
                  <a:pt x="11814" y="14919"/>
                  <a:pt x="11658" y="15106"/>
                </a:cubicBezTo>
                <a:cubicBezTo>
                  <a:pt x="11625" y="15114"/>
                  <a:pt x="11592" y="15123"/>
                  <a:pt x="11559" y="15131"/>
                </a:cubicBezTo>
                <a:cubicBezTo>
                  <a:pt x="11622" y="14850"/>
                  <a:pt x="11759" y="14681"/>
                  <a:pt x="11931" y="14436"/>
                </a:cubicBezTo>
              </a:path>
              <a:path w="2630" h="1266">
                <a:moveTo>
                  <a:pt x="12303" y="14362"/>
                </a:moveTo>
                <a:cubicBezTo>
                  <a:pt x="12140" y="14527"/>
                  <a:pt x="12113" y="14709"/>
                  <a:pt x="12105" y="14932"/>
                </a:cubicBezTo>
                <a:cubicBezTo>
                  <a:pt x="12361" y="14960"/>
                  <a:pt x="12552" y="14797"/>
                  <a:pt x="12452" y="14486"/>
                </a:cubicBezTo>
                <a:cubicBezTo>
                  <a:pt x="12365" y="14378"/>
                  <a:pt x="12352" y="14336"/>
                  <a:pt x="12254" y="14362"/>
                </a:cubicBezTo>
              </a:path>
              <a:path w="2630" h="1266">
                <a:moveTo>
                  <a:pt x="12725" y="14362"/>
                </a:moveTo>
                <a:cubicBezTo>
                  <a:pt x="12625" y="14620"/>
                  <a:pt x="12578" y="14684"/>
                  <a:pt x="12650" y="14932"/>
                </a:cubicBezTo>
                <a:cubicBezTo>
                  <a:pt x="12957" y="14818"/>
                  <a:pt x="13008" y="14711"/>
                  <a:pt x="12973" y="14387"/>
                </a:cubicBezTo>
              </a:path>
              <a:path w="2630" h="1266">
                <a:moveTo>
                  <a:pt x="11534" y="15280"/>
                </a:moveTo>
                <a:cubicBezTo>
                  <a:pt x="11497" y="15371"/>
                  <a:pt x="11494" y="15473"/>
                  <a:pt x="11460" y="15553"/>
                </a:cubicBezTo>
              </a:path>
              <a:path w="2630" h="1266">
                <a:moveTo>
                  <a:pt x="11410" y="15503"/>
                </a:moveTo>
                <a:cubicBezTo>
                  <a:pt x="11430" y="15538"/>
                  <a:pt x="11497" y="15650"/>
                  <a:pt x="11559" y="15602"/>
                </a:cubicBezTo>
                <a:cubicBezTo>
                  <a:pt x="11609" y="15528"/>
                  <a:pt x="11626" y="15503"/>
                  <a:pt x="11658" y="154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48120" y="5126040"/>
            <a:ext cx="100080" cy="490680"/>
          </a:xfrm>
          <a:custGeom>
            <a:avLst/>
            <a:gdLst/>
            <a:ahLst/>
            <a:rect l="l" t="t" r="r" b="b"/>
            <a:pathLst>
              <a:path w="274" h="1365">
                <a:moveTo>
                  <a:pt x="13593" y="14412"/>
                </a:moveTo>
                <a:cubicBezTo>
                  <a:pt x="13593" y="14371"/>
                  <a:pt x="13606" y="14268"/>
                  <a:pt x="13568" y="14238"/>
                </a:cubicBezTo>
                <a:cubicBezTo>
                  <a:pt x="13494" y="14181"/>
                  <a:pt x="13476" y="14328"/>
                  <a:pt x="13469" y="14362"/>
                </a:cubicBezTo>
                <a:cubicBezTo>
                  <a:pt x="13552" y="14279"/>
                  <a:pt x="13607" y="14246"/>
                  <a:pt x="13494" y="14263"/>
                </a:cubicBezTo>
              </a:path>
              <a:path w="274" h="1365">
                <a:moveTo>
                  <a:pt x="13742" y="15131"/>
                </a:moveTo>
                <a:cubicBezTo>
                  <a:pt x="13719" y="15349"/>
                  <a:pt x="13699" y="15428"/>
                  <a:pt x="13568" y="156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70320" y="5062680"/>
            <a:ext cx="731880" cy="519120"/>
          </a:xfrm>
          <a:custGeom>
            <a:avLst/>
            <a:gdLst/>
            <a:ahLst/>
            <a:rect l="l" t="t" r="r" b="b"/>
            <a:pathLst>
              <a:path w="2035" h="1440">
                <a:moveTo>
                  <a:pt x="14585" y="14263"/>
                </a:moveTo>
                <a:cubicBezTo>
                  <a:pt x="14449" y="14437"/>
                  <a:pt x="14307" y="14736"/>
                  <a:pt x="14387" y="14982"/>
                </a:cubicBezTo>
                <a:cubicBezTo>
                  <a:pt x="14412" y="15007"/>
                  <a:pt x="14436" y="15031"/>
                  <a:pt x="14461" y="15056"/>
                </a:cubicBezTo>
                <a:cubicBezTo>
                  <a:pt x="14691" y="14863"/>
                  <a:pt x="14787" y="14691"/>
                  <a:pt x="14660" y="14387"/>
                </a:cubicBezTo>
                <a:cubicBezTo>
                  <a:pt x="14590" y="14295"/>
                  <a:pt x="14573" y="14262"/>
                  <a:pt x="14486" y="14288"/>
                </a:cubicBezTo>
              </a:path>
              <a:path w="2035" h="1440">
                <a:moveTo>
                  <a:pt x="15081" y="14734"/>
                </a:moveTo>
                <a:cubicBezTo>
                  <a:pt x="15081" y="14800"/>
                  <a:pt x="15081" y="14817"/>
                  <a:pt x="15081" y="14858"/>
                </a:cubicBezTo>
              </a:path>
              <a:path w="2035" h="1440">
                <a:moveTo>
                  <a:pt x="15429" y="14114"/>
                </a:moveTo>
                <a:cubicBezTo>
                  <a:pt x="15409" y="14254"/>
                  <a:pt x="15360" y="14446"/>
                  <a:pt x="15379" y="14585"/>
                </a:cubicBezTo>
                <a:cubicBezTo>
                  <a:pt x="15412" y="14825"/>
                  <a:pt x="15619" y="14812"/>
                  <a:pt x="15776" y="14684"/>
                </a:cubicBezTo>
                <a:cubicBezTo>
                  <a:pt x="15863" y="14575"/>
                  <a:pt x="15892" y="14552"/>
                  <a:pt x="15900" y="14461"/>
                </a:cubicBezTo>
                <a:cubicBezTo>
                  <a:pt x="15751" y="14362"/>
                  <a:pt x="15720" y="14495"/>
                  <a:pt x="15677" y="14635"/>
                </a:cubicBezTo>
                <a:cubicBezTo>
                  <a:pt x="15657" y="14736"/>
                  <a:pt x="15638" y="14756"/>
                  <a:pt x="15677" y="14808"/>
                </a:cubicBezTo>
              </a:path>
              <a:path w="2035" h="1440">
                <a:moveTo>
                  <a:pt x="16247" y="14064"/>
                </a:moveTo>
                <a:cubicBezTo>
                  <a:pt x="16247" y="14072"/>
                  <a:pt x="16247" y="14081"/>
                  <a:pt x="16247" y="14089"/>
                </a:cubicBezTo>
              </a:path>
              <a:path w="2035" h="1440">
                <a:moveTo>
                  <a:pt x="16396" y="15007"/>
                </a:moveTo>
                <a:cubicBezTo>
                  <a:pt x="16372" y="15263"/>
                  <a:pt x="16366" y="15316"/>
                  <a:pt x="16197" y="155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54840" y="4803840"/>
            <a:ext cx="1000080" cy="492120"/>
          </a:xfrm>
          <a:custGeom>
            <a:avLst/>
            <a:gdLst/>
            <a:ahLst/>
            <a:rect l="l" t="t" r="r" b="b"/>
            <a:pathLst>
              <a:path w="2779" h="1365">
                <a:moveTo>
                  <a:pt x="16818" y="14585"/>
                </a:moveTo>
                <a:cubicBezTo>
                  <a:pt x="16873" y="14504"/>
                  <a:pt x="16859" y="14725"/>
                  <a:pt x="17016" y="14709"/>
                </a:cubicBezTo>
                <a:cubicBezTo>
                  <a:pt x="17285" y="14682"/>
                  <a:pt x="17430" y="14347"/>
                  <a:pt x="17338" y="14114"/>
                </a:cubicBezTo>
                <a:cubicBezTo>
                  <a:pt x="17223" y="13976"/>
                  <a:pt x="17196" y="13929"/>
                  <a:pt x="17066" y="13940"/>
                </a:cubicBezTo>
                <a:cubicBezTo>
                  <a:pt x="16833" y="14201"/>
                  <a:pt x="16888" y="14368"/>
                  <a:pt x="17041" y="14684"/>
                </a:cubicBezTo>
              </a:path>
              <a:path w="2779" h="1365">
                <a:moveTo>
                  <a:pt x="17735" y="14387"/>
                </a:moveTo>
                <a:cubicBezTo>
                  <a:pt x="17735" y="14403"/>
                  <a:pt x="17735" y="14420"/>
                  <a:pt x="17735" y="14436"/>
                </a:cubicBezTo>
              </a:path>
              <a:path w="2779" h="1365">
                <a:moveTo>
                  <a:pt x="18331" y="13841"/>
                </a:moveTo>
                <a:cubicBezTo>
                  <a:pt x="18232" y="13871"/>
                  <a:pt x="18023" y="13867"/>
                  <a:pt x="18008" y="13990"/>
                </a:cubicBezTo>
                <a:cubicBezTo>
                  <a:pt x="18000" y="14059"/>
                  <a:pt x="18008" y="14142"/>
                  <a:pt x="18008" y="14213"/>
                </a:cubicBezTo>
                <a:cubicBezTo>
                  <a:pt x="18088" y="14106"/>
                  <a:pt x="18268" y="14026"/>
                  <a:pt x="18405" y="14114"/>
                </a:cubicBezTo>
                <a:cubicBezTo>
                  <a:pt x="18657" y="14277"/>
                  <a:pt x="18266" y="14400"/>
                  <a:pt x="18182" y="14412"/>
                </a:cubicBezTo>
              </a:path>
              <a:path w="2779" h="1365">
                <a:moveTo>
                  <a:pt x="18926" y="13767"/>
                </a:moveTo>
                <a:cubicBezTo>
                  <a:pt x="18784" y="13767"/>
                  <a:pt x="18769" y="13806"/>
                  <a:pt x="18653" y="13915"/>
                </a:cubicBezTo>
                <a:cubicBezTo>
                  <a:pt x="18746" y="14067"/>
                  <a:pt x="18883" y="14137"/>
                  <a:pt x="18976" y="14288"/>
                </a:cubicBezTo>
                <a:cubicBezTo>
                  <a:pt x="18793" y="14378"/>
                  <a:pt x="18681" y="14293"/>
                  <a:pt x="18777" y="14064"/>
                </a:cubicBezTo>
                <a:cubicBezTo>
                  <a:pt x="18823" y="13955"/>
                  <a:pt x="19053" y="13776"/>
                  <a:pt x="18926" y="13692"/>
                </a:cubicBezTo>
              </a:path>
              <a:path w="2779" h="1365">
                <a:moveTo>
                  <a:pt x="19199" y="13692"/>
                </a:moveTo>
                <a:cubicBezTo>
                  <a:pt x="19315" y="13692"/>
                  <a:pt x="19501" y="13661"/>
                  <a:pt x="19422" y="13841"/>
                </a:cubicBezTo>
                <a:cubicBezTo>
                  <a:pt x="19357" y="13928"/>
                  <a:pt x="19346" y="13956"/>
                  <a:pt x="19273" y="13965"/>
                </a:cubicBezTo>
                <a:cubicBezTo>
                  <a:pt x="19431" y="13980"/>
                  <a:pt x="19482" y="13985"/>
                  <a:pt x="19596" y="14089"/>
                </a:cubicBezTo>
                <a:cubicBezTo>
                  <a:pt x="19471" y="14255"/>
                  <a:pt x="19399" y="14334"/>
                  <a:pt x="19199" y="14263"/>
                </a:cubicBezTo>
              </a:path>
              <a:path w="2779" h="1365">
                <a:moveTo>
                  <a:pt x="19149" y="13370"/>
                </a:moveTo>
                <a:cubicBezTo>
                  <a:pt x="19289" y="13405"/>
                  <a:pt x="19364" y="13372"/>
                  <a:pt x="19496" y="133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59000" y="5572080"/>
            <a:ext cx="4187880" cy="1125720"/>
          </a:xfrm>
          <a:custGeom>
            <a:avLst/>
            <a:gdLst/>
            <a:ahLst/>
            <a:rect l="l" t="t" r="r" b="b"/>
            <a:pathLst>
              <a:path w="11634" h="3127">
                <a:moveTo>
                  <a:pt x="7689" y="15900"/>
                </a:moveTo>
                <a:cubicBezTo>
                  <a:pt x="7729" y="16000"/>
                  <a:pt x="7769" y="16099"/>
                  <a:pt x="7813" y="16197"/>
                </a:cubicBezTo>
              </a:path>
              <a:path w="11634" h="3127">
                <a:moveTo>
                  <a:pt x="7689" y="15999"/>
                </a:moveTo>
                <a:cubicBezTo>
                  <a:pt x="7706" y="16101"/>
                  <a:pt x="7750" y="16183"/>
                  <a:pt x="7813" y="16272"/>
                </a:cubicBezTo>
                <a:cubicBezTo>
                  <a:pt x="7821" y="16280"/>
                  <a:pt x="7830" y="16289"/>
                  <a:pt x="7838" y="16297"/>
                </a:cubicBezTo>
                <a:cubicBezTo>
                  <a:pt x="7895" y="16269"/>
                  <a:pt x="7957" y="16178"/>
                  <a:pt x="8012" y="16123"/>
                </a:cubicBezTo>
                <a:cubicBezTo>
                  <a:pt x="8020" y="16115"/>
                  <a:pt x="8029" y="16106"/>
                  <a:pt x="8037" y="16098"/>
                </a:cubicBezTo>
              </a:path>
              <a:path w="11634" h="3127">
                <a:moveTo>
                  <a:pt x="7516" y="16197"/>
                </a:moveTo>
                <a:cubicBezTo>
                  <a:pt x="7635" y="16213"/>
                  <a:pt x="7685" y="16271"/>
                  <a:pt x="7789" y="16297"/>
                </a:cubicBezTo>
              </a:path>
              <a:path w="11634" h="3127">
                <a:moveTo>
                  <a:pt x="7218" y="17066"/>
                </a:moveTo>
                <a:cubicBezTo>
                  <a:pt x="7210" y="17058"/>
                  <a:pt x="7201" y="17049"/>
                  <a:pt x="7193" y="17041"/>
                </a:cubicBezTo>
                <a:cubicBezTo>
                  <a:pt x="7358" y="16849"/>
                  <a:pt x="7441" y="17122"/>
                  <a:pt x="7417" y="17289"/>
                </a:cubicBezTo>
                <a:cubicBezTo>
                  <a:pt x="7380" y="17551"/>
                  <a:pt x="7194" y="17675"/>
                  <a:pt x="6995" y="17562"/>
                </a:cubicBezTo>
                <a:cubicBezTo>
                  <a:pt x="7044" y="17343"/>
                  <a:pt x="7140" y="17313"/>
                  <a:pt x="7367" y="17413"/>
                </a:cubicBezTo>
                <a:cubicBezTo>
                  <a:pt x="7430" y="17455"/>
                  <a:pt x="7442" y="17471"/>
                  <a:pt x="7491" y="17462"/>
                </a:cubicBezTo>
              </a:path>
              <a:path w="11634" h="3127">
                <a:moveTo>
                  <a:pt x="7962" y="16594"/>
                </a:moveTo>
                <a:cubicBezTo>
                  <a:pt x="8041" y="16586"/>
                  <a:pt x="8110" y="16568"/>
                  <a:pt x="8186" y="16545"/>
                </a:cubicBezTo>
                <a:cubicBezTo>
                  <a:pt x="8201" y="16705"/>
                  <a:pt x="8184" y="16812"/>
                  <a:pt x="8136" y="16966"/>
                </a:cubicBezTo>
              </a:path>
              <a:path w="11634" h="3127">
                <a:moveTo>
                  <a:pt x="7863" y="17140"/>
                </a:moveTo>
                <a:cubicBezTo>
                  <a:pt x="8044" y="17084"/>
                  <a:pt x="8225" y="17033"/>
                  <a:pt x="8409" y="16991"/>
                </a:cubicBezTo>
              </a:path>
              <a:path w="11634" h="3127">
                <a:moveTo>
                  <a:pt x="8310" y="17190"/>
                </a:moveTo>
                <a:cubicBezTo>
                  <a:pt x="8206" y="17217"/>
                  <a:pt x="8133" y="17240"/>
                  <a:pt x="8037" y="17289"/>
                </a:cubicBezTo>
                <a:cubicBezTo>
                  <a:pt x="8165" y="17377"/>
                  <a:pt x="8344" y="17428"/>
                  <a:pt x="8285" y="17611"/>
                </a:cubicBezTo>
                <a:cubicBezTo>
                  <a:pt x="8237" y="17683"/>
                  <a:pt x="8224" y="17706"/>
                  <a:pt x="8161" y="17711"/>
                </a:cubicBezTo>
                <a:cubicBezTo>
                  <a:pt x="8147" y="17574"/>
                  <a:pt x="8255" y="17454"/>
                  <a:pt x="8310" y="17314"/>
                </a:cubicBezTo>
                <a:cubicBezTo>
                  <a:pt x="8332" y="17247"/>
                  <a:pt x="8347" y="17225"/>
                  <a:pt x="8285" y="17214"/>
                </a:cubicBezTo>
              </a:path>
              <a:path w="11634" h="3127">
                <a:moveTo>
                  <a:pt x="9327" y="16818"/>
                </a:moveTo>
                <a:cubicBezTo>
                  <a:pt x="9241" y="16805"/>
                  <a:pt x="9205" y="16874"/>
                  <a:pt x="9277" y="16917"/>
                </a:cubicBezTo>
                <a:cubicBezTo>
                  <a:pt x="9366" y="16784"/>
                  <a:pt x="9323" y="16787"/>
                  <a:pt x="9178" y="16818"/>
                </a:cubicBezTo>
              </a:path>
              <a:path w="11634" h="3127">
                <a:moveTo>
                  <a:pt x="9475" y="17462"/>
                </a:moveTo>
                <a:cubicBezTo>
                  <a:pt x="9475" y="17605"/>
                  <a:pt x="9479" y="17715"/>
                  <a:pt x="9351" y="17810"/>
                </a:cubicBezTo>
                <a:cubicBezTo>
                  <a:pt x="9318" y="17826"/>
                  <a:pt x="9285" y="17843"/>
                  <a:pt x="9252" y="17859"/>
                </a:cubicBezTo>
              </a:path>
              <a:path w="11634" h="3127">
                <a:moveTo>
                  <a:pt x="10443" y="16669"/>
                </a:moveTo>
                <a:cubicBezTo>
                  <a:pt x="10640" y="16592"/>
                  <a:pt x="10748" y="16735"/>
                  <a:pt x="10691" y="16966"/>
                </a:cubicBezTo>
                <a:cubicBezTo>
                  <a:pt x="10643" y="17161"/>
                  <a:pt x="10481" y="17381"/>
                  <a:pt x="10294" y="17289"/>
                </a:cubicBezTo>
                <a:cubicBezTo>
                  <a:pt x="10335" y="17122"/>
                  <a:pt x="10465" y="17059"/>
                  <a:pt x="10641" y="17165"/>
                </a:cubicBezTo>
                <a:cubicBezTo>
                  <a:pt x="10688" y="17235"/>
                  <a:pt x="10705" y="17255"/>
                  <a:pt x="10691" y="17314"/>
                </a:cubicBezTo>
              </a:path>
              <a:path w="11634" h="3127">
                <a:moveTo>
                  <a:pt x="11336" y="16247"/>
                </a:moveTo>
                <a:cubicBezTo>
                  <a:pt x="11320" y="16336"/>
                  <a:pt x="11299" y="16431"/>
                  <a:pt x="11286" y="16520"/>
                </a:cubicBezTo>
                <a:cubicBezTo>
                  <a:pt x="11368" y="16555"/>
                  <a:pt x="11420" y="16535"/>
                  <a:pt x="11509" y="16520"/>
                </a:cubicBezTo>
              </a:path>
              <a:path w="11634" h="3127">
                <a:moveTo>
                  <a:pt x="11509" y="16222"/>
                </a:moveTo>
                <a:cubicBezTo>
                  <a:pt x="11502" y="16455"/>
                  <a:pt x="11492" y="16687"/>
                  <a:pt x="11460" y="16917"/>
                </a:cubicBezTo>
              </a:path>
              <a:path w="11634" h="3127">
                <a:moveTo>
                  <a:pt x="11162" y="16991"/>
                </a:moveTo>
                <a:cubicBezTo>
                  <a:pt x="11321" y="16965"/>
                  <a:pt x="11482" y="16948"/>
                  <a:pt x="11633" y="16892"/>
                </a:cubicBezTo>
              </a:path>
              <a:path w="11634" h="3127">
                <a:moveTo>
                  <a:pt x="11609" y="17016"/>
                </a:moveTo>
                <a:cubicBezTo>
                  <a:pt x="11548" y="17022"/>
                  <a:pt x="11334" y="17045"/>
                  <a:pt x="11311" y="17115"/>
                </a:cubicBezTo>
                <a:cubicBezTo>
                  <a:pt x="11305" y="17132"/>
                  <a:pt x="11336" y="17253"/>
                  <a:pt x="11336" y="17289"/>
                </a:cubicBezTo>
                <a:cubicBezTo>
                  <a:pt x="11429" y="17283"/>
                  <a:pt x="11516" y="17271"/>
                  <a:pt x="11609" y="17264"/>
                </a:cubicBezTo>
                <a:cubicBezTo>
                  <a:pt x="11627" y="17413"/>
                  <a:pt x="11618" y="17538"/>
                  <a:pt x="11410" y="17512"/>
                </a:cubicBezTo>
                <a:cubicBezTo>
                  <a:pt x="11360" y="17495"/>
                  <a:pt x="11311" y="17479"/>
                  <a:pt x="11261" y="17462"/>
                </a:cubicBezTo>
              </a:path>
              <a:path w="11634" h="3127">
                <a:moveTo>
                  <a:pt x="12402" y="16718"/>
                </a:moveTo>
                <a:cubicBezTo>
                  <a:pt x="12355" y="16865"/>
                  <a:pt x="12517" y="16732"/>
                  <a:pt x="12402" y="16694"/>
                </a:cubicBezTo>
              </a:path>
              <a:path w="11634" h="3127">
                <a:moveTo>
                  <a:pt x="12526" y="17239"/>
                </a:moveTo>
                <a:cubicBezTo>
                  <a:pt x="12597" y="17439"/>
                  <a:pt x="12585" y="17530"/>
                  <a:pt x="12378" y="17636"/>
                </a:cubicBezTo>
                <a:cubicBezTo>
                  <a:pt x="12353" y="17644"/>
                  <a:pt x="12328" y="17653"/>
                  <a:pt x="12303" y="17661"/>
                </a:cubicBezTo>
              </a:path>
              <a:path w="11634" h="3127">
                <a:moveTo>
                  <a:pt x="13667" y="16247"/>
                </a:moveTo>
                <a:cubicBezTo>
                  <a:pt x="13763" y="16168"/>
                  <a:pt x="13822" y="16151"/>
                  <a:pt x="13940" y="16173"/>
                </a:cubicBezTo>
                <a:cubicBezTo>
                  <a:pt x="13912" y="16331"/>
                  <a:pt x="13886" y="16359"/>
                  <a:pt x="13767" y="16470"/>
                </a:cubicBezTo>
                <a:cubicBezTo>
                  <a:pt x="13809" y="16449"/>
                  <a:pt x="13924" y="16372"/>
                  <a:pt x="14089" y="16421"/>
                </a:cubicBezTo>
                <a:cubicBezTo>
                  <a:pt x="14089" y="16600"/>
                  <a:pt x="13979" y="16661"/>
                  <a:pt x="13791" y="16694"/>
                </a:cubicBezTo>
                <a:cubicBezTo>
                  <a:pt x="13766" y="16694"/>
                  <a:pt x="13742" y="16694"/>
                  <a:pt x="13717" y="16694"/>
                </a:cubicBezTo>
              </a:path>
              <a:path w="11634" h="3127">
                <a:moveTo>
                  <a:pt x="13643" y="16942"/>
                </a:moveTo>
                <a:cubicBezTo>
                  <a:pt x="13832" y="16913"/>
                  <a:pt x="14022" y="16882"/>
                  <a:pt x="14213" y="16867"/>
                </a:cubicBezTo>
              </a:path>
              <a:path w="11634" h="3127">
                <a:moveTo>
                  <a:pt x="14015" y="17115"/>
                </a:moveTo>
                <a:cubicBezTo>
                  <a:pt x="13949" y="17159"/>
                  <a:pt x="13910" y="17198"/>
                  <a:pt x="13866" y="17264"/>
                </a:cubicBezTo>
                <a:cubicBezTo>
                  <a:pt x="14030" y="17303"/>
                  <a:pt x="14126" y="17315"/>
                  <a:pt x="14238" y="17438"/>
                </a:cubicBezTo>
                <a:cubicBezTo>
                  <a:pt x="14091" y="17584"/>
                  <a:pt x="13995" y="17566"/>
                  <a:pt x="13791" y="17537"/>
                </a:cubicBezTo>
              </a:path>
              <a:path w="11634" h="3127">
                <a:moveTo>
                  <a:pt x="14064" y="17066"/>
                </a:moveTo>
                <a:cubicBezTo>
                  <a:pt x="14132" y="17029"/>
                  <a:pt x="14200" y="17002"/>
                  <a:pt x="14263" y="16966"/>
                </a:cubicBezTo>
              </a:path>
              <a:path w="11634" h="3127">
                <a:moveTo>
                  <a:pt x="14908" y="16545"/>
                </a:moveTo>
                <a:cubicBezTo>
                  <a:pt x="14858" y="16595"/>
                  <a:pt x="14920" y="16537"/>
                  <a:pt x="14932" y="16495"/>
                </a:cubicBezTo>
              </a:path>
              <a:path w="11634" h="3127">
                <a:moveTo>
                  <a:pt x="14957" y="17190"/>
                </a:moveTo>
                <a:cubicBezTo>
                  <a:pt x="14957" y="17313"/>
                  <a:pt x="14951" y="17457"/>
                  <a:pt x="14833" y="17537"/>
                </a:cubicBezTo>
                <a:cubicBezTo>
                  <a:pt x="14800" y="17545"/>
                  <a:pt x="14767" y="17554"/>
                  <a:pt x="14734" y="17562"/>
                </a:cubicBezTo>
              </a:path>
              <a:path w="11634" h="3127">
                <a:moveTo>
                  <a:pt x="16123" y="15999"/>
                </a:moveTo>
                <a:cubicBezTo>
                  <a:pt x="16123" y="16090"/>
                  <a:pt x="16123" y="16115"/>
                  <a:pt x="16123" y="16173"/>
                </a:cubicBezTo>
                <a:cubicBezTo>
                  <a:pt x="16150" y="16058"/>
                  <a:pt x="16147" y="16009"/>
                  <a:pt x="16272" y="15974"/>
                </a:cubicBezTo>
                <a:cubicBezTo>
                  <a:pt x="16366" y="15955"/>
                  <a:pt x="16385" y="15968"/>
                  <a:pt x="16421" y="15925"/>
                </a:cubicBezTo>
                <a:cubicBezTo>
                  <a:pt x="16470" y="16068"/>
                  <a:pt x="16436" y="16266"/>
                  <a:pt x="16396" y="16421"/>
                </a:cubicBezTo>
                <a:cubicBezTo>
                  <a:pt x="16388" y="16437"/>
                  <a:pt x="16379" y="16454"/>
                  <a:pt x="16371" y="16470"/>
                </a:cubicBezTo>
              </a:path>
              <a:path w="11634" h="3127">
                <a:moveTo>
                  <a:pt x="15999" y="16743"/>
                </a:moveTo>
                <a:cubicBezTo>
                  <a:pt x="16229" y="16655"/>
                  <a:pt x="16458" y="16625"/>
                  <a:pt x="16694" y="16570"/>
                </a:cubicBezTo>
                <a:cubicBezTo>
                  <a:pt x="16710" y="16562"/>
                  <a:pt x="16727" y="16553"/>
                  <a:pt x="16743" y="16545"/>
                </a:cubicBezTo>
              </a:path>
              <a:path w="11634" h="3127">
                <a:moveTo>
                  <a:pt x="16197" y="17041"/>
                </a:moveTo>
                <a:cubicBezTo>
                  <a:pt x="16186" y="17222"/>
                  <a:pt x="16158" y="17354"/>
                  <a:pt x="16073" y="17512"/>
                </a:cubicBezTo>
              </a:path>
              <a:path w="11634" h="3127">
                <a:moveTo>
                  <a:pt x="16421" y="16917"/>
                </a:moveTo>
                <a:cubicBezTo>
                  <a:pt x="16545" y="16888"/>
                  <a:pt x="16733" y="16883"/>
                  <a:pt x="16694" y="17090"/>
                </a:cubicBezTo>
                <a:cubicBezTo>
                  <a:pt x="16656" y="17292"/>
                  <a:pt x="16454" y="17362"/>
                  <a:pt x="16321" y="17289"/>
                </a:cubicBezTo>
                <a:cubicBezTo>
                  <a:pt x="16453" y="17234"/>
                  <a:pt x="16679" y="17091"/>
                  <a:pt x="16743" y="17289"/>
                </a:cubicBezTo>
                <a:cubicBezTo>
                  <a:pt x="16743" y="17314"/>
                  <a:pt x="16743" y="17338"/>
                  <a:pt x="16743" y="17363"/>
                </a:cubicBezTo>
              </a:path>
              <a:path w="11634" h="3127">
                <a:moveTo>
                  <a:pt x="15280" y="18405"/>
                </a:moveTo>
                <a:cubicBezTo>
                  <a:pt x="15475" y="18413"/>
                  <a:pt x="15656" y="18409"/>
                  <a:pt x="15850" y="18405"/>
                </a:cubicBezTo>
                <a:cubicBezTo>
                  <a:pt x="16526" y="18390"/>
                  <a:pt x="17311" y="18267"/>
                  <a:pt x="17735" y="17661"/>
                </a:cubicBezTo>
                <a:cubicBezTo>
                  <a:pt x="17881" y="17452"/>
                  <a:pt x="17925" y="17311"/>
                  <a:pt x="17884" y="17066"/>
                </a:cubicBezTo>
                <a:cubicBezTo>
                  <a:pt x="17834" y="16765"/>
                  <a:pt x="17608" y="16510"/>
                  <a:pt x="17438" y="16272"/>
                </a:cubicBezTo>
                <a:cubicBezTo>
                  <a:pt x="17362" y="16166"/>
                  <a:pt x="17287" y="16061"/>
                  <a:pt x="17214" y="15949"/>
                </a:cubicBezTo>
                <a:cubicBezTo>
                  <a:pt x="17146" y="15846"/>
                  <a:pt x="17086" y="15741"/>
                  <a:pt x="16991" y="15652"/>
                </a:cubicBezTo>
                <a:cubicBezTo>
                  <a:pt x="16911" y="15577"/>
                  <a:pt x="16828" y="15506"/>
                  <a:pt x="16718" y="15478"/>
                </a:cubicBezTo>
                <a:cubicBezTo>
                  <a:pt x="16478" y="15418"/>
                  <a:pt x="16178" y="15511"/>
                  <a:pt x="15949" y="15553"/>
                </a:cubicBezTo>
                <a:cubicBezTo>
                  <a:pt x="15842" y="15572"/>
                  <a:pt x="15735" y="15607"/>
                  <a:pt x="15627" y="15627"/>
                </a:cubicBezTo>
                <a:cubicBezTo>
                  <a:pt x="15477" y="15654"/>
                  <a:pt x="15329" y="15663"/>
                  <a:pt x="15180" y="15701"/>
                </a:cubicBezTo>
                <a:cubicBezTo>
                  <a:pt x="15020" y="15742"/>
                  <a:pt x="14869" y="15807"/>
                  <a:pt x="14709" y="15850"/>
                </a:cubicBezTo>
                <a:cubicBezTo>
                  <a:pt x="14465" y="15915"/>
                  <a:pt x="14284" y="15932"/>
                  <a:pt x="14039" y="15900"/>
                </a:cubicBezTo>
                <a:cubicBezTo>
                  <a:pt x="13909" y="15883"/>
                  <a:pt x="13767" y="15867"/>
                  <a:pt x="13643" y="15825"/>
                </a:cubicBezTo>
                <a:cubicBezTo>
                  <a:pt x="13565" y="15798"/>
                  <a:pt x="13505" y="15747"/>
                  <a:pt x="13419" y="15726"/>
                </a:cubicBezTo>
                <a:cubicBezTo>
                  <a:pt x="13292" y="15694"/>
                  <a:pt x="13128" y="15656"/>
                  <a:pt x="12998" y="15652"/>
                </a:cubicBezTo>
                <a:cubicBezTo>
                  <a:pt x="12803" y="15646"/>
                  <a:pt x="12635" y="15700"/>
                  <a:pt x="12452" y="15751"/>
                </a:cubicBezTo>
                <a:cubicBezTo>
                  <a:pt x="12319" y="15788"/>
                  <a:pt x="12187" y="15831"/>
                  <a:pt x="12055" y="15875"/>
                </a:cubicBezTo>
                <a:cubicBezTo>
                  <a:pt x="11908" y="15924"/>
                  <a:pt x="11760" y="15963"/>
                  <a:pt x="11609" y="15999"/>
                </a:cubicBezTo>
                <a:cubicBezTo>
                  <a:pt x="11511" y="16022"/>
                  <a:pt x="11411" y="16048"/>
                  <a:pt x="11311" y="16049"/>
                </a:cubicBezTo>
                <a:cubicBezTo>
                  <a:pt x="11147" y="16051"/>
                  <a:pt x="10977" y="16001"/>
                  <a:pt x="10815" y="15974"/>
                </a:cubicBezTo>
                <a:cubicBezTo>
                  <a:pt x="10700" y="15955"/>
                  <a:pt x="10585" y="15931"/>
                  <a:pt x="10468" y="15925"/>
                </a:cubicBezTo>
                <a:cubicBezTo>
                  <a:pt x="10179" y="15909"/>
                  <a:pt x="9948" y="15979"/>
                  <a:pt x="9674" y="16049"/>
                </a:cubicBezTo>
                <a:cubicBezTo>
                  <a:pt x="9532" y="16085"/>
                  <a:pt x="9273" y="16199"/>
                  <a:pt x="9128" y="16173"/>
                </a:cubicBezTo>
                <a:cubicBezTo>
                  <a:pt x="9000" y="16150"/>
                  <a:pt x="8891" y="16022"/>
                  <a:pt x="8756" y="15999"/>
                </a:cubicBezTo>
                <a:cubicBezTo>
                  <a:pt x="8655" y="15982"/>
                  <a:pt x="8607" y="15984"/>
                  <a:pt x="8508" y="15999"/>
                </a:cubicBezTo>
                <a:cubicBezTo>
                  <a:pt x="8354" y="16023"/>
                  <a:pt x="8356" y="16012"/>
                  <a:pt x="8235" y="16098"/>
                </a:cubicBezTo>
                <a:cubicBezTo>
                  <a:pt x="8175" y="16141"/>
                  <a:pt x="8144" y="16265"/>
                  <a:pt x="8086" y="16297"/>
                </a:cubicBezTo>
                <a:cubicBezTo>
                  <a:pt x="8020" y="16333"/>
                  <a:pt x="7913" y="16355"/>
                  <a:pt x="7838" y="16371"/>
                </a:cubicBezTo>
                <a:cubicBezTo>
                  <a:pt x="7521" y="16438"/>
                  <a:pt x="7188" y="16329"/>
                  <a:pt x="6871" y="16421"/>
                </a:cubicBezTo>
                <a:cubicBezTo>
                  <a:pt x="6782" y="16447"/>
                  <a:pt x="6642" y="16506"/>
                  <a:pt x="6573" y="16570"/>
                </a:cubicBezTo>
                <a:cubicBezTo>
                  <a:pt x="6507" y="16631"/>
                  <a:pt x="6437" y="16737"/>
                  <a:pt x="6400" y="16818"/>
                </a:cubicBezTo>
                <a:cubicBezTo>
                  <a:pt x="6349" y="16930"/>
                  <a:pt x="6355" y="16976"/>
                  <a:pt x="6325" y="17090"/>
                </a:cubicBezTo>
                <a:cubicBezTo>
                  <a:pt x="6298" y="17193"/>
                  <a:pt x="6258" y="17350"/>
                  <a:pt x="6276" y="17462"/>
                </a:cubicBezTo>
                <a:cubicBezTo>
                  <a:pt x="6288" y="17536"/>
                  <a:pt x="6345" y="17593"/>
                  <a:pt x="6375" y="17661"/>
                </a:cubicBezTo>
                <a:cubicBezTo>
                  <a:pt x="6408" y="17737"/>
                  <a:pt x="6468" y="17803"/>
                  <a:pt x="6499" y="17884"/>
                </a:cubicBezTo>
                <a:cubicBezTo>
                  <a:pt x="6562" y="18047"/>
                  <a:pt x="6525" y="18130"/>
                  <a:pt x="6672" y="18231"/>
                </a:cubicBezTo>
                <a:cubicBezTo>
                  <a:pt x="6740" y="18278"/>
                  <a:pt x="6844" y="18271"/>
                  <a:pt x="6921" y="18306"/>
                </a:cubicBezTo>
                <a:cubicBezTo>
                  <a:pt x="7148" y="18411"/>
                  <a:pt x="7411" y="18604"/>
                  <a:pt x="7665" y="18604"/>
                </a:cubicBezTo>
                <a:cubicBezTo>
                  <a:pt x="7747" y="18604"/>
                  <a:pt x="7785" y="18546"/>
                  <a:pt x="7863" y="18529"/>
                </a:cubicBezTo>
                <a:cubicBezTo>
                  <a:pt x="8079" y="18482"/>
                  <a:pt x="8269" y="18441"/>
                  <a:pt x="8508" y="18455"/>
                </a:cubicBezTo>
                <a:cubicBezTo>
                  <a:pt x="8696" y="18466"/>
                  <a:pt x="8894" y="18477"/>
                  <a:pt x="9079" y="18504"/>
                </a:cubicBezTo>
                <a:cubicBezTo>
                  <a:pt x="9201" y="18522"/>
                  <a:pt x="9298" y="18548"/>
                  <a:pt x="9426" y="18554"/>
                </a:cubicBezTo>
                <a:cubicBezTo>
                  <a:pt x="9923" y="18577"/>
                  <a:pt x="10334" y="18472"/>
                  <a:pt x="10815" y="18405"/>
                </a:cubicBezTo>
                <a:cubicBezTo>
                  <a:pt x="11062" y="18371"/>
                  <a:pt x="11288" y="18387"/>
                  <a:pt x="11534" y="18405"/>
                </a:cubicBezTo>
                <a:cubicBezTo>
                  <a:pt x="11748" y="18420"/>
                  <a:pt x="11965" y="18437"/>
                  <a:pt x="12179" y="18455"/>
                </a:cubicBezTo>
                <a:cubicBezTo>
                  <a:pt x="12345" y="18469"/>
                  <a:pt x="12508" y="18498"/>
                  <a:pt x="12675" y="18504"/>
                </a:cubicBezTo>
                <a:cubicBezTo>
                  <a:pt x="12955" y="18515"/>
                  <a:pt x="13154" y="18438"/>
                  <a:pt x="13419" y="18380"/>
                </a:cubicBezTo>
                <a:cubicBezTo>
                  <a:pt x="13542" y="18353"/>
                  <a:pt x="13668" y="18319"/>
                  <a:pt x="13791" y="18306"/>
                </a:cubicBezTo>
                <a:cubicBezTo>
                  <a:pt x="14152" y="18269"/>
                  <a:pt x="14463" y="18455"/>
                  <a:pt x="14808" y="18455"/>
                </a:cubicBezTo>
                <a:cubicBezTo>
                  <a:pt x="14917" y="18455"/>
                  <a:pt x="15006" y="18428"/>
                  <a:pt x="15106" y="18405"/>
                </a:cubicBezTo>
                <a:cubicBezTo>
                  <a:pt x="15161" y="18392"/>
                  <a:pt x="15222" y="18362"/>
                  <a:pt x="15280" y="18355"/>
                </a:cubicBezTo>
                <a:cubicBezTo>
                  <a:pt x="15320" y="18350"/>
                  <a:pt x="15379" y="18280"/>
                  <a:pt x="15429" y="18281"/>
                </a:cubicBezTo>
                <a:cubicBezTo>
                  <a:pt x="15491" y="18281"/>
                  <a:pt x="15515" y="18292"/>
                  <a:pt x="15528" y="183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59800" y="2697120"/>
            <a:ext cx="438120" cy="231840"/>
          </a:xfrm>
          <a:custGeom>
            <a:avLst/>
            <a:gdLst/>
            <a:ahLst/>
            <a:rect l="l" t="t" r="r" b="b"/>
            <a:pathLst>
              <a:path w="1217" h="646">
                <a:moveTo>
                  <a:pt x="21779" y="7615"/>
                </a:moveTo>
                <a:cubicBezTo>
                  <a:pt x="21779" y="7764"/>
                  <a:pt x="21779" y="8111"/>
                  <a:pt x="21779" y="7962"/>
                </a:cubicBezTo>
                <a:cubicBezTo>
                  <a:pt x="21779" y="7937"/>
                  <a:pt x="21779" y="7913"/>
                  <a:pt x="21779" y="7888"/>
                </a:cubicBezTo>
                <a:cubicBezTo>
                  <a:pt x="21799" y="7749"/>
                  <a:pt x="21801" y="7621"/>
                  <a:pt x="21853" y="7491"/>
                </a:cubicBezTo>
                <a:cubicBezTo>
                  <a:pt x="21839" y="7658"/>
                  <a:pt x="21828" y="7819"/>
                  <a:pt x="21828" y="7987"/>
                </a:cubicBezTo>
                <a:cubicBezTo>
                  <a:pt x="21828" y="8012"/>
                  <a:pt x="21828" y="8037"/>
                  <a:pt x="21828" y="8062"/>
                </a:cubicBezTo>
              </a:path>
              <a:path w="1217" h="646">
                <a:moveTo>
                  <a:pt x="21555" y="7913"/>
                </a:moveTo>
                <a:cubicBezTo>
                  <a:pt x="21637" y="7988"/>
                  <a:pt x="21745" y="8104"/>
                  <a:pt x="21853" y="8136"/>
                </a:cubicBezTo>
                <a:cubicBezTo>
                  <a:pt x="21955" y="8166"/>
                  <a:pt x="22073" y="7950"/>
                  <a:pt x="22126" y="7888"/>
                </a:cubicBezTo>
                <a:cubicBezTo>
                  <a:pt x="22134" y="7880"/>
                  <a:pt x="22143" y="7871"/>
                  <a:pt x="22151" y="7863"/>
                </a:cubicBezTo>
              </a:path>
              <a:path w="1217" h="646">
                <a:moveTo>
                  <a:pt x="22498" y="7491"/>
                </a:moveTo>
                <a:cubicBezTo>
                  <a:pt x="22545" y="7647"/>
                  <a:pt x="22576" y="7799"/>
                  <a:pt x="22597" y="7962"/>
                </a:cubicBezTo>
              </a:path>
              <a:path w="1217" h="646">
                <a:moveTo>
                  <a:pt x="22423" y="7913"/>
                </a:moveTo>
                <a:cubicBezTo>
                  <a:pt x="22476" y="7944"/>
                  <a:pt x="22542" y="8013"/>
                  <a:pt x="22597" y="8062"/>
                </a:cubicBezTo>
                <a:cubicBezTo>
                  <a:pt x="22653" y="7950"/>
                  <a:pt x="22695" y="7858"/>
                  <a:pt x="22771" y="77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45040" y="2571840"/>
            <a:ext cx="1258920" cy="509400"/>
          </a:xfrm>
          <a:custGeom>
            <a:avLst/>
            <a:gdLst/>
            <a:ahLst/>
            <a:rect l="l" t="t" r="r" b="b"/>
            <a:pathLst>
              <a:path w="3498" h="1415">
                <a:moveTo>
                  <a:pt x="14015" y="8483"/>
                </a:moveTo>
                <a:cubicBezTo>
                  <a:pt x="14165" y="8455"/>
                  <a:pt x="14307" y="8458"/>
                  <a:pt x="14461" y="8458"/>
                </a:cubicBezTo>
                <a:cubicBezTo>
                  <a:pt x="14609" y="8458"/>
                  <a:pt x="14738" y="8424"/>
                  <a:pt x="14883" y="8409"/>
                </a:cubicBezTo>
                <a:cubicBezTo>
                  <a:pt x="15222" y="8375"/>
                  <a:pt x="15589" y="8409"/>
                  <a:pt x="15925" y="8434"/>
                </a:cubicBezTo>
                <a:cubicBezTo>
                  <a:pt x="16094" y="8446"/>
                  <a:pt x="16256" y="8423"/>
                  <a:pt x="16421" y="8409"/>
                </a:cubicBezTo>
                <a:cubicBezTo>
                  <a:pt x="16514" y="8401"/>
                  <a:pt x="16603" y="8401"/>
                  <a:pt x="16694" y="8384"/>
                </a:cubicBezTo>
                <a:cubicBezTo>
                  <a:pt x="16802" y="8364"/>
                  <a:pt x="16909" y="8354"/>
                  <a:pt x="17016" y="8334"/>
                </a:cubicBezTo>
                <a:cubicBezTo>
                  <a:pt x="17119" y="8315"/>
                  <a:pt x="17181" y="8278"/>
                  <a:pt x="17264" y="8235"/>
                </a:cubicBezTo>
                <a:cubicBezTo>
                  <a:pt x="17337" y="8197"/>
                  <a:pt x="17392" y="8153"/>
                  <a:pt x="17438" y="8086"/>
                </a:cubicBezTo>
                <a:cubicBezTo>
                  <a:pt x="17483" y="8020"/>
                  <a:pt x="17473" y="7912"/>
                  <a:pt x="17487" y="7838"/>
                </a:cubicBezTo>
                <a:cubicBezTo>
                  <a:pt x="17501" y="7763"/>
                  <a:pt x="17525" y="7699"/>
                  <a:pt x="17512" y="7615"/>
                </a:cubicBezTo>
                <a:cubicBezTo>
                  <a:pt x="17501" y="7546"/>
                  <a:pt x="17447" y="7373"/>
                  <a:pt x="17413" y="7317"/>
                </a:cubicBezTo>
                <a:cubicBezTo>
                  <a:pt x="17381" y="7265"/>
                  <a:pt x="17310" y="7217"/>
                  <a:pt x="17264" y="7193"/>
                </a:cubicBezTo>
                <a:cubicBezTo>
                  <a:pt x="17138" y="7129"/>
                  <a:pt x="17069" y="7165"/>
                  <a:pt x="16942" y="7169"/>
                </a:cubicBezTo>
                <a:cubicBezTo>
                  <a:pt x="16831" y="7173"/>
                  <a:pt x="16705" y="7178"/>
                  <a:pt x="16594" y="7193"/>
                </a:cubicBezTo>
                <a:cubicBezTo>
                  <a:pt x="16470" y="7210"/>
                  <a:pt x="16346" y="7255"/>
                  <a:pt x="16222" y="7268"/>
                </a:cubicBezTo>
                <a:cubicBezTo>
                  <a:pt x="16047" y="7286"/>
                  <a:pt x="15877" y="7265"/>
                  <a:pt x="15701" y="7293"/>
                </a:cubicBezTo>
                <a:cubicBezTo>
                  <a:pt x="15545" y="7318"/>
                  <a:pt x="15327" y="7319"/>
                  <a:pt x="15180" y="7367"/>
                </a:cubicBezTo>
                <a:cubicBezTo>
                  <a:pt x="15056" y="7408"/>
                  <a:pt x="14989" y="7425"/>
                  <a:pt x="14858" y="7417"/>
                </a:cubicBezTo>
                <a:cubicBezTo>
                  <a:pt x="14693" y="7407"/>
                  <a:pt x="14530" y="7342"/>
                  <a:pt x="14362" y="7367"/>
                </a:cubicBezTo>
                <a:cubicBezTo>
                  <a:pt x="14273" y="7380"/>
                  <a:pt x="14242" y="7396"/>
                  <a:pt x="14188" y="7466"/>
                </a:cubicBezTo>
                <a:cubicBezTo>
                  <a:pt x="14110" y="7568"/>
                  <a:pt x="14099" y="7742"/>
                  <a:pt x="14089" y="7863"/>
                </a:cubicBezTo>
                <a:cubicBezTo>
                  <a:pt x="14082" y="7946"/>
                  <a:pt x="14071" y="8008"/>
                  <a:pt x="14064" y="8086"/>
                </a:cubicBezTo>
                <a:cubicBezTo>
                  <a:pt x="14056" y="8170"/>
                  <a:pt x="14042" y="8220"/>
                  <a:pt x="14039" y="8310"/>
                </a:cubicBezTo>
                <a:cubicBezTo>
                  <a:pt x="14037" y="8375"/>
                  <a:pt x="14025" y="8452"/>
                  <a:pt x="14064" y="8508"/>
                </a:cubicBezTo>
                <a:cubicBezTo>
                  <a:pt x="14133" y="8607"/>
                  <a:pt x="14253" y="8535"/>
                  <a:pt x="14337" y="8508"/>
                </a:cubicBezTo>
                <a:cubicBezTo>
                  <a:pt x="14365" y="8480"/>
                  <a:pt x="14379" y="8471"/>
                  <a:pt x="14412" y="84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66000" y="2705040"/>
            <a:ext cx="1589040" cy="1519200"/>
          </a:xfrm>
          <a:custGeom>
            <a:avLst/>
            <a:gdLst/>
            <a:ahLst/>
            <a:rect l="l" t="t" r="r" b="b"/>
            <a:pathLst>
              <a:path w="4416" h="4218">
                <a:moveTo>
                  <a:pt x="21506" y="9079"/>
                </a:moveTo>
                <a:cubicBezTo>
                  <a:pt x="21562" y="9106"/>
                  <a:pt x="21571" y="9112"/>
                  <a:pt x="21481" y="9079"/>
                </a:cubicBezTo>
              </a:path>
              <a:path w="4416" h="4218">
                <a:moveTo>
                  <a:pt x="21977" y="8458"/>
                </a:moveTo>
                <a:cubicBezTo>
                  <a:pt x="21929" y="8546"/>
                  <a:pt x="21787" y="8798"/>
                  <a:pt x="21903" y="8905"/>
                </a:cubicBezTo>
                <a:cubicBezTo>
                  <a:pt x="22020" y="9013"/>
                  <a:pt x="22243" y="8908"/>
                  <a:pt x="22250" y="8756"/>
                </a:cubicBezTo>
                <a:cubicBezTo>
                  <a:pt x="22223" y="8702"/>
                  <a:pt x="22211" y="8682"/>
                  <a:pt x="22175" y="8657"/>
                </a:cubicBezTo>
                <a:cubicBezTo>
                  <a:pt x="22049" y="8673"/>
                  <a:pt x="22017" y="8750"/>
                  <a:pt x="22027" y="8880"/>
                </a:cubicBezTo>
                <a:cubicBezTo>
                  <a:pt x="22035" y="8913"/>
                  <a:pt x="22043" y="8946"/>
                  <a:pt x="22051" y="8979"/>
                </a:cubicBezTo>
              </a:path>
              <a:path w="4416" h="4218">
                <a:moveTo>
                  <a:pt x="22572" y="8483"/>
                </a:moveTo>
                <a:cubicBezTo>
                  <a:pt x="22437" y="8556"/>
                  <a:pt x="22276" y="8715"/>
                  <a:pt x="22374" y="8905"/>
                </a:cubicBezTo>
                <a:cubicBezTo>
                  <a:pt x="22399" y="8921"/>
                  <a:pt x="22423" y="8938"/>
                  <a:pt x="22448" y="8954"/>
                </a:cubicBezTo>
                <a:cubicBezTo>
                  <a:pt x="22644" y="8909"/>
                  <a:pt x="22907" y="8806"/>
                  <a:pt x="22796" y="8533"/>
                </a:cubicBezTo>
                <a:cubicBezTo>
                  <a:pt x="22728" y="8465"/>
                  <a:pt x="22712" y="8443"/>
                  <a:pt x="22647" y="8434"/>
                </a:cubicBezTo>
              </a:path>
              <a:path w="4416" h="4218">
                <a:moveTo>
                  <a:pt x="21481" y="9773"/>
                </a:moveTo>
                <a:cubicBezTo>
                  <a:pt x="21500" y="9812"/>
                  <a:pt x="21655" y="9873"/>
                  <a:pt x="21630" y="9773"/>
                </a:cubicBezTo>
                <a:cubicBezTo>
                  <a:pt x="21613" y="9756"/>
                  <a:pt x="21597" y="9740"/>
                  <a:pt x="21580" y="9723"/>
                </a:cubicBezTo>
              </a:path>
              <a:path w="4416" h="4218">
                <a:moveTo>
                  <a:pt x="20886" y="9451"/>
                </a:moveTo>
                <a:cubicBezTo>
                  <a:pt x="20992" y="9408"/>
                  <a:pt x="21013" y="9392"/>
                  <a:pt x="21084" y="9401"/>
                </a:cubicBezTo>
                <a:cubicBezTo>
                  <a:pt x="21120" y="9617"/>
                  <a:pt x="21119" y="9936"/>
                  <a:pt x="20836" y="10021"/>
                </a:cubicBezTo>
                <a:cubicBezTo>
                  <a:pt x="20803" y="10013"/>
                  <a:pt x="20770" y="10004"/>
                  <a:pt x="20737" y="9996"/>
                </a:cubicBezTo>
                <a:cubicBezTo>
                  <a:pt x="20726" y="9809"/>
                  <a:pt x="20780" y="9661"/>
                  <a:pt x="21010" y="9798"/>
                </a:cubicBezTo>
                <a:cubicBezTo>
                  <a:pt x="21085" y="9842"/>
                  <a:pt x="21152" y="9949"/>
                  <a:pt x="21183" y="10021"/>
                </a:cubicBezTo>
              </a:path>
              <a:path w="4416" h="4218">
                <a:moveTo>
                  <a:pt x="22200" y="9351"/>
                </a:moveTo>
                <a:cubicBezTo>
                  <a:pt x="22167" y="9234"/>
                  <a:pt x="22032" y="9271"/>
                  <a:pt x="21903" y="9327"/>
                </a:cubicBezTo>
                <a:cubicBezTo>
                  <a:pt x="21902" y="9548"/>
                  <a:pt x="22103" y="9533"/>
                  <a:pt x="22200" y="9723"/>
                </a:cubicBezTo>
                <a:cubicBezTo>
                  <a:pt x="22267" y="9853"/>
                  <a:pt x="22123" y="9872"/>
                  <a:pt x="22051" y="9897"/>
                </a:cubicBezTo>
                <a:cubicBezTo>
                  <a:pt x="21983" y="9705"/>
                  <a:pt x="22072" y="9603"/>
                  <a:pt x="22175" y="9426"/>
                </a:cubicBezTo>
                <a:cubicBezTo>
                  <a:pt x="22183" y="9409"/>
                  <a:pt x="22192" y="9393"/>
                  <a:pt x="22200" y="9376"/>
                </a:cubicBezTo>
              </a:path>
              <a:path w="4416" h="4218">
                <a:moveTo>
                  <a:pt x="21605" y="10542"/>
                </a:moveTo>
                <a:cubicBezTo>
                  <a:pt x="21589" y="10584"/>
                  <a:pt x="21576" y="10738"/>
                  <a:pt x="21679" y="10666"/>
                </a:cubicBezTo>
                <a:cubicBezTo>
                  <a:pt x="21704" y="10616"/>
                  <a:pt x="21712" y="10600"/>
                  <a:pt x="21654" y="10592"/>
                </a:cubicBezTo>
              </a:path>
              <a:path w="4416" h="4218">
                <a:moveTo>
                  <a:pt x="22225" y="10195"/>
                </a:moveTo>
                <a:cubicBezTo>
                  <a:pt x="22023" y="10195"/>
                  <a:pt x="22014" y="10197"/>
                  <a:pt x="21952" y="10393"/>
                </a:cubicBezTo>
                <a:cubicBezTo>
                  <a:pt x="22055" y="10384"/>
                  <a:pt x="22256" y="10341"/>
                  <a:pt x="22349" y="10418"/>
                </a:cubicBezTo>
                <a:cubicBezTo>
                  <a:pt x="22586" y="10614"/>
                  <a:pt x="22152" y="10637"/>
                  <a:pt x="22101" y="10641"/>
                </a:cubicBezTo>
              </a:path>
              <a:path w="4416" h="4218">
                <a:moveTo>
                  <a:pt x="22796" y="10071"/>
                </a:moveTo>
                <a:cubicBezTo>
                  <a:pt x="22695" y="10077"/>
                  <a:pt x="22618" y="10086"/>
                  <a:pt x="22523" y="10120"/>
                </a:cubicBezTo>
                <a:cubicBezTo>
                  <a:pt x="22578" y="10357"/>
                  <a:pt x="22780" y="10339"/>
                  <a:pt x="22870" y="10542"/>
                </a:cubicBezTo>
                <a:cubicBezTo>
                  <a:pt x="22870" y="10575"/>
                  <a:pt x="22870" y="10608"/>
                  <a:pt x="22870" y="10641"/>
                </a:cubicBezTo>
                <a:cubicBezTo>
                  <a:pt x="22642" y="10642"/>
                  <a:pt x="22643" y="10500"/>
                  <a:pt x="22746" y="10294"/>
                </a:cubicBezTo>
                <a:cubicBezTo>
                  <a:pt x="22829" y="10128"/>
                  <a:pt x="22904" y="10153"/>
                  <a:pt x="22845" y="10021"/>
                </a:cubicBezTo>
              </a:path>
              <a:path w="4416" h="4218">
                <a:moveTo>
                  <a:pt x="23168" y="10046"/>
                </a:moveTo>
                <a:cubicBezTo>
                  <a:pt x="23213" y="10038"/>
                  <a:pt x="23613" y="9967"/>
                  <a:pt x="23515" y="10120"/>
                </a:cubicBezTo>
                <a:cubicBezTo>
                  <a:pt x="23468" y="10194"/>
                  <a:pt x="23342" y="10231"/>
                  <a:pt x="23267" y="10269"/>
                </a:cubicBezTo>
                <a:cubicBezTo>
                  <a:pt x="23360" y="10269"/>
                  <a:pt x="23620" y="10257"/>
                  <a:pt x="23540" y="10443"/>
                </a:cubicBezTo>
                <a:cubicBezTo>
                  <a:pt x="23456" y="10638"/>
                  <a:pt x="23275" y="10508"/>
                  <a:pt x="23192" y="10418"/>
                </a:cubicBezTo>
              </a:path>
              <a:path w="4416" h="4218">
                <a:moveTo>
                  <a:pt x="23217" y="9823"/>
                </a:moveTo>
                <a:cubicBezTo>
                  <a:pt x="23174" y="9801"/>
                  <a:pt x="23162" y="9797"/>
                  <a:pt x="23143" y="9773"/>
                </a:cubicBezTo>
                <a:cubicBezTo>
                  <a:pt x="23276" y="9765"/>
                  <a:pt x="23406" y="9748"/>
                  <a:pt x="23540" y="9748"/>
                </a:cubicBezTo>
              </a:path>
              <a:path w="4416" h="4218">
                <a:moveTo>
                  <a:pt x="20886" y="10964"/>
                </a:moveTo>
                <a:cubicBezTo>
                  <a:pt x="20886" y="11020"/>
                  <a:pt x="20881" y="11042"/>
                  <a:pt x="20836" y="11063"/>
                </a:cubicBezTo>
                <a:cubicBezTo>
                  <a:pt x="20907" y="10909"/>
                  <a:pt x="21051" y="10904"/>
                  <a:pt x="21034" y="11137"/>
                </a:cubicBezTo>
                <a:cubicBezTo>
                  <a:pt x="21015" y="11396"/>
                  <a:pt x="20817" y="11520"/>
                  <a:pt x="20613" y="11485"/>
                </a:cubicBezTo>
                <a:cubicBezTo>
                  <a:pt x="20612" y="11287"/>
                  <a:pt x="20811" y="11197"/>
                  <a:pt x="21010" y="11336"/>
                </a:cubicBezTo>
                <a:cubicBezTo>
                  <a:pt x="21073" y="11441"/>
                  <a:pt x="21090" y="11461"/>
                  <a:pt x="21109" y="11534"/>
                </a:cubicBezTo>
              </a:path>
              <a:path w="4416" h="4218">
                <a:moveTo>
                  <a:pt x="21605" y="11311"/>
                </a:moveTo>
                <a:cubicBezTo>
                  <a:pt x="21542" y="11436"/>
                  <a:pt x="21657" y="11305"/>
                  <a:pt x="21679" y="11286"/>
                </a:cubicBezTo>
              </a:path>
              <a:path w="4416" h="4218">
                <a:moveTo>
                  <a:pt x="22250" y="10840"/>
                </a:moveTo>
                <a:cubicBezTo>
                  <a:pt x="22185" y="10831"/>
                  <a:pt x="21826" y="10820"/>
                  <a:pt x="22002" y="10964"/>
                </a:cubicBezTo>
                <a:cubicBezTo>
                  <a:pt x="22183" y="11112"/>
                  <a:pt x="22236" y="11047"/>
                  <a:pt x="22250" y="11261"/>
                </a:cubicBezTo>
                <a:cubicBezTo>
                  <a:pt x="22225" y="11286"/>
                  <a:pt x="22200" y="11311"/>
                  <a:pt x="22175" y="11336"/>
                </a:cubicBezTo>
                <a:cubicBezTo>
                  <a:pt x="22184" y="11126"/>
                  <a:pt x="22244" y="11031"/>
                  <a:pt x="22349" y="10840"/>
                </a:cubicBezTo>
              </a:path>
              <a:path w="4416" h="4218">
                <a:moveTo>
                  <a:pt x="22572" y="10964"/>
                </a:moveTo>
                <a:cubicBezTo>
                  <a:pt x="22686" y="10926"/>
                  <a:pt x="22774" y="10899"/>
                  <a:pt x="22895" y="10889"/>
                </a:cubicBezTo>
                <a:cubicBezTo>
                  <a:pt x="22913" y="11034"/>
                  <a:pt x="22887" y="11162"/>
                  <a:pt x="22870" y="11311"/>
                </a:cubicBezTo>
              </a:path>
              <a:path w="4416" h="4218">
                <a:moveTo>
                  <a:pt x="23515" y="10840"/>
                </a:moveTo>
                <a:cubicBezTo>
                  <a:pt x="23396" y="10785"/>
                  <a:pt x="23323" y="10735"/>
                  <a:pt x="23292" y="10864"/>
                </a:cubicBezTo>
                <a:cubicBezTo>
                  <a:pt x="23271" y="10947"/>
                  <a:pt x="23263" y="10962"/>
                  <a:pt x="23267" y="11013"/>
                </a:cubicBezTo>
                <a:cubicBezTo>
                  <a:pt x="23398" y="11006"/>
                  <a:pt x="23631" y="10948"/>
                  <a:pt x="23738" y="11063"/>
                </a:cubicBezTo>
                <a:cubicBezTo>
                  <a:pt x="23746" y="11096"/>
                  <a:pt x="23755" y="11129"/>
                  <a:pt x="23763" y="11162"/>
                </a:cubicBezTo>
                <a:cubicBezTo>
                  <a:pt x="23604" y="11297"/>
                  <a:pt x="23539" y="11302"/>
                  <a:pt x="23341" y="11237"/>
                </a:cubicBezTo>
              </a:path>
              <a:path w="4416" h="4218">
                <a:moveTo>
                  <a:pt x="20935" y="8533"/>
                </a:moveTo>
                <a:cubicBezTo>
                  <a:pt x="20830" y="8610"/>
                  <a:pt x="20698" y="8820"/>
                  <a:pt x="20762" y="8979"/>
                </a:cubicBezTo>
                <a:cubicBezTo>
                  <a:pt x="20787" y="8996"/>
                  <a:pt x="20811" y="9012"/>
                  <a:pt x="20836" y="9029"/>
                </a:cubicBezTo>
                <a:cubicBezTo>
                  <a:pt x="21021" y="8922"/>
                  <a:pt x="21137" y="8812"/>
                  <a:pt x="21084" y="8582"/>
                </a:cubicBezTo>
                <a:cubicBezTo>
                  <a:pt x="21042" y="8500"/>
                  <a:pt x="21042" y="8475"/>
                  <a:pt x="20985" y="8458"/>
                </a:cubicBezTo>
              </a:path>
              <a:path w="4416" h="4218">
                <a:moveTo>
                  <a:pt x="22845" y="9277"/>
                </a:moveTo>
                <a:cubicBezTo>
                  <a:pt x="22702" y="9289"/>
                  <a:pt x="22593" y="9391"/>
                  <a:pt x="22572" y="9550"/>
                </a:cubicBezTo>
                <a:cubicBezTo>
                  <a:pt x="22580" y="9591"/>
                  <a:pt x="22589" y="9633"/>
                  <a:pt x="22597" y="9674"/>
                </a:cubicBezTo>
                <a:cubicBezTo>
                  <a:pt x="22784" y="9705"/>
                  <a:pt x="22961" y="9648"/>
                  <a:pt x="22994" y="9426"/>
                </a:cubicBezTo>
                <a:cubicBezTo>
                  <a:pt x="23026" y="9208"/>
                  <a:pt x="22794" y="9250"/>
                  <a:pt x="22671" y="9277"/>
                </a:cubicBezTo>
              </a:path>
              <a:path w="4416" h="4218">
                <a:moveTo>
                  <a:pt x="23391" y="9302"/>
                </a:moveTo>
                <a:cubicBezTo>
                  <a:pt x="23275" y="9385"/>
                  <a:pt x="23264" y="9383"/>
                  <a:pt x="23242" y="9525"/>
                </a:cubicBezTo>
                <a:cubicBezTo>
                  <a:pt x="23386" y="9549"/>
                  <a:pt x="23587" y="9505"/>
                  <a:pt x="23639" y="9327"/>
                </a:cubicBezTo>
                <a:cubicBezTo>
                  <a:pt x="23686" y="9166"/>
                  <a:pt x="23368" y="9243"/>
                  <a:pt x="23316" y="9252"/>
                </a:cubicBezTo>
              </a:path>
              <a:path w="4416" h="4218">
                <a:moveTo>
                  <a:pt x="23316" y="8483"/>
                </a:moveTo>
                <a:cubicBezTo>
                  <a:pt x="23208" y="8411"/>
                  <a:pt x="23089" y="8410"/>
                  <a:pt x="23044" y="8582"/>
                </a:cubicBezTo>
                <a:cubicBezTo>
                  <a:pt x="23044" y="8718"/>
                  <a:pt x="23038" y="8756"/>
                  <a:pt x="23093" y="8830"/>
                </a:cubicBezTo>
                <a:cubicBezTo>
                  <a:pt x="23233" y="8830"/>
                  <a:pt x="23607" y="8769"/>
                  <a:pt x="23465" y="8508"/>
                </a:cubicBezTo>
                <a:cubicBezTo>
                  <a:pt x="23369" y="8459"/>
                  <a:pt x="23338" y="8442"/>
                  <a:pt x="23267" y="8483"/>
                </a:cubicBezTo>
              </a:path>
              <a:path w="4416" h="4218">
                <a:moveTo>
                  <a:pt x="20935" y="10319"/>
                </a:moveTo>
                <a:cubicBezTo>
                  <a:pt x="20777" y="10337"/>
                  <a:pt x="20758" y="10374"/>
                  <a:pt x="20737" y="10542"/>
                </a:cubicBezTo>
                <a:cubicBezTo>
                  <a:pt x="20737" y="10575"/>
                  <a:pt x="20737" y="10608"/>
                  <a:pt x="20737" y="10641"/>
                </a:cubicBezTo>
                <a:cubicBezTo>
                  <a:pt x="20904" y="10708"/>
                  <a:pt x="21020" y="10712"/>
                  <a:pt x="21109" y="10517"/>
                </a:cubicBezTo>
                <a:cubicBezTo>
                  <a:pt x="21178" y="10366"/>
                  <a:pt x="21102" y="10253"/>
                  <a:pt x="20935" y="10294"/>
                </a:cubicBezTo>
                <a:cubicBezTo>
                  <a:pt x="20902" y="10311"/>
                  <a:pt x="20869" y="10327"/>
                  <a:pt x="20836" y="10344"/>
                </a:cubicBezTo>
              </a:path>
              <a:path w="4416" h="4218">
                <a:moveTo>
                  <a:pt x="20960" y="7516"/>
                </a:moveTo>
                <a:cubicBezTo>
                  <a:pt x="20960" y="7723"/>
                  <a:pt x="20960" y="7929"/>
                  <a:pt x="20960" y="8136"/>
                </a:cubicBezTo>
              </a:path>
              <a:path w="4416" h="4218">
                <a:moveTo>
                  <a:pt x="20762" y="7962"/>
                </a:moveTo>
                <a:cubicBezTo>
                  <a:pt x="20810" y="8041"/>
                  <a:pt x="20852" y="8115"/>
                  <a:pt x="20910" y="8186"/>
                </a:cubicBezTo>
                <a:cubicBezTo>
                  <a:pt x="21007" y="8128"/>
                  <a:pt x="21097" y="8061"/>
                  <a:pt x="21183" y="7987"/>
                </a:cubicBezTo>
              </a:path>
              <a:path w="4416" h="4218">
                <a:moveTo>
                  <a:pt x="19348" y="9699"/>
                </a:moveTo>
                <a:cubicBezTo>
                  <a:pt x="19592" y="9668"/>
                  <a:pt x="19867" y="9724"/>
                  <a:pt x="20117" y="9748"/>
                </a:cubicBezTo>
                <a:cubicBezTo>
                  <a:pt x="20280" y="9764"/>
                  <a:pt x="20427" y="9773"/>
                  <a:pt x="20588" y="9773"/>
                </a:cubicBezTo>
              </a:path>
              <a:path w="4416" h="4218">
                <a:moveTo>
                  <a:pt x="20117" y="9376"/>
                </a:moveTo>
                <a:cubicBezTo>
                  <a:pt x="20258" y="9460"/>
                  <a:pt x="20488" y="9549"/>
                  <a:pt x="20563" y="9649"/>
                </a:cubicBezTo>
                <a:cubicBezTo>
                  <a:pt x="20518" y="9843"/>
                  <a:pt x="20358" y="9974"/>
                  <a:pt x="20216" y="10120"/>
                </a:cubicBezTo>
                <a:cubicBezTo>
                  <a:pt x="20199" y="10137"/>
                  <a:pt x="20183" y="10153"/>
                  <a:pt x="20166" y="10170"/>
                </a:cubicBezTo>
              </a:path>
              <a:path w="4416" h="4218">
                <a:moveTo>
                  <a:pt x="19397" y="11261"/>
                </a:moveTo>
                <a:cubicBezTo>
                  <a:pt x="19661" y="11294"/>
                  <a:pt x="19925" y="11327"/>
                  <a:pt x="20191" y="11336"/>
                </a:cubicBezTo>
                <a:cubicBezTo>
                  <a:pt x="20199" y="11336"/>
                  <a:pt x="20208" y="11336"/>
                  <a:pt x="20216" y="11336"/>
                </a:cubicBezTo>
              </a:path>
              <a:path w="4416" h="4218">
                <a:moveTo>
                  <a:pt x="19993" y="11112"/>
                </a:moveTo>
                <a:cubicBezTo>
                  <a:pt x="20049" y="11128"/>
                  <a:pt x="20326" y="11170"/>
                  <a:pt x="20315" y="11261"/>
                </a:cubicBezTo>
                <a:cubicBezTo>
                  <a:pt x="20299" y="11398"/>
                  <a:pt x="20071" y="11596"/>
                  <a:pt x="19993" y="11708"/>
                </a:cubicBezTo>
                <a:cubicBezTo>
                  <a:pt x="19985" y="11716"/>
                  <a:pt x="19976" y="11725"/>
                  <a:pt x="19968" y="11733"/>
                </a:cubicBezTo>
              </a:path>
              <a:path w="4416" h="4218">
                <a:moveTo>
                  <a:pt x="19496" y="11212"/>
                </a:moveTo>
                <a:cubicBezTo>
                  <a:pt x="19538" y="11196"/>
                  <a:pt x="20186" y="11039"/>
                  <a:pt x="20191" y="11063"/>
                </a:cubicBezTo>
                <a:cubicBezTo>
                  <a:pt x="20220" y="11207"/>
                  <a:pt x="19674" y="11353"/>
                  <a:pt x="19571" y="11385"/>
                </a:cubicBezTo>
                <a:cubicBezTo>
                  <a:pt x="19785" y="11339"/>
                  <a:pt x="19998" y="11225"/>
                  <a:pt x="20216" y="11187"/>
                </a:cubicBezTo>
                <a:cubicBezTo>
                  <a:pt x="20447" y="11147"/>
                  <a:pt x="19361" y="11507"/>
                  <a:pt x="19596" y="11509"/>
                </a:cubicBezTo>
                <a:cubicBezTo>
                  <a:pt x="19765" y="11511"/>
                  <a:pt x="20116" y="11333"/>
                  <a:pt x="20290" y="11286"/>
                </a:cubicBezTo>
                <a:cubicBezTo>
                  <a:pt x="20337" y="11331"/>
                  <a:pt x="19867" y="11471"/>
                  <a:pt x="19645" y="11559"/>
                </a:cubicBezTo>
                <a:cubicBezTo>
                  <a:pt x="19883" y="11408"/>
                  <a:pt x="20648" y="11052"/>
                  <a:pt x="20389" y="11162"/>
                </a:cubicBezTo>
                <a:cubicBezTo>
                  <a:pt x="20171" y="11259"/>
                  <a:pt x="20100" y="11288"/>
                  <a:pt x="19993" y="114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41840" y="3803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0393" y="10567"/>
                </a:moveTo>
                <a:lnTo>
                  <a:pt x="10393" y="1056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54920" y="3938760"/>
            <a:ext cx="1616040" cy="204480"/>
          </a:xfrm>
          <a:custGeom>
            <a:avLst/>
            <a:gdLst/>
            <a:ahLst/>
            <a:rect l="l" t="t" r="r" b="b"/>
            <a:pathLst>
              <a:path w="4490" h="571">
                <a:moveTo>
                  <a:pt x="19596" y="11509"/>
                </a:moveTo>
                <a:cubicBezTo>
                  <a:pt x="19713" y="11473"/>
                  <a:pt x="19792" y="11460"/>
                  <a:pt x="19918" y="11460"/>
                </a:cubicBezTo>
                <a:cubicBezTo>
                  <a:pt x="20186" y="11460"/>
                  <a:pt x="20447" y="11422"/>
                  <a:pt x="20712" y="11385"/>
                </a:cubicBezTo>
                <a:cubicBezTo>
                  <a:pt x="20932" y="11355"/>
                  <a:pt x="21141" y="11288"/>
                  <a:pt x="21357" y="11237"/>
                </a:cubicBezTo>
                <a:cubicBezTo>
                  <a:pt x="21622" y="11174"/>
                  <a:pt x="21884" y="11111"/>
                  <a:pt x="22151" y="11063"/>
                </a:cubicBezTo>
                <a:cubicBezTo>
                  <a:pt x="22273" y="11041"/>
                  <a:pt x="22402" y="10977"/>
                  <a:pt x="22523" y="10964"/>
                </a:cubicBezTo>
                <a:cubicBezTo>
                  <a:pt x="22692" y="10946"/>
                  <a:pt x="22875" y="10949"/>
                  <a:pt x="23044" y="10939"/>
                </a:cubicBezTo>
                <a:cubicBezTo>
                  <a:pt x="23325" y="10922"/>
                  <a:pt x="23612" y="10945"/>
                  <a:pt x="23887" y="10964"/>
                </a:cubicBezTo>
                <a:cubicBezTo>
                  <a:pt x="23953" y="10969"/>
                  <a:pt x="24019" y="10961"/>
                  <a:pt x="24085" y="109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73920" y="3303720"/>
            <a:ext cx="1706400" cy="304560"/>
          </a:xfrm>
          <a:custGeom>
            <a:avLst/>
            <a:gdLst/>
            <a:ahLst/>
            <a:rect l="l" t="t" r="r" b="b"/>
            <a:pathLst>
              <a:path w="4739" h="844">
                <a:moveTo>
                  <a:pt x="19670" y="9897"/>
                </a:moveTo>
                <a:cubicBezTo>
                  <a:pt x="19789" y="9805"/>
                  <a:pt x="19879" y="9744"/>
                  <a:pt x="20017" y="9699"/>
                </a:cubicBezTo>
                <a:cubicBezTo>
                  <a:pt x="20305" y="9605"/>
                  <a:pt x="20586" y="9583"/>
                  <a:pt x="20886" y="9550"/>
                </a:cubicBezTo>
                <a:cubicBezTo>
                  <a:pt x="21187" y="9517"/>
                  <a:pt x="21506" y="9485"/>
                  <a:pt x="21803" y="9426"/>
                </a:cubicBezTo>
                <a:cubicBezTo>
                  <a:pt x="22061" y="9375"/>
                  <a:pt x="22315" y="9314"/>
                  <a:pt x="22572" y="9252"/>
                </a:cubicBezTo>
                <a:cubicBezTo>
                  <a:pt x="22769" y="9204"/>
                  <a:pt x="22966" y="9181"/>
                  <a:pt x="23168" y="9178"/>
                </a:cubicBezTo>
                <a:cubicBezTo>
                  <a:pt x="23369" y="9175"/>
                  <a:pt x="23564" y="9213"/>
                  <a:pt x="23763" y="9227"/>
                </a:cubicBezTo>
                <a:cubicBezTo>
                  <a:pt x="23860" y="9234"/>
                  <a:pt x="23938" y="9249"/>
                  <a:pt x="24036" y="9252"/>
                </a:cubicBezTo>
                <a:cubicBezTo>
                  <a:pt x="24069" y="9252"/>
                  <a:pt x="24085" y="9252"/>
                  <a:pt x="24110" y="9252"/>
                </a:cubicBezTo>
                <a:cubicBezTo>
                  <a:pt x="23900" y="9448"/>
                  <a:pt x="23703" y="9428"/>
                  <a:pt x="23416" y="9451"/>
                </a:cubicBezTo>
                <a:cubicBezTo>
                  <a:pt x="23034" y="9482"/>
                  <a:pt x="22657" y="9485"/>
                  <a:pt x="22275" y="9525"/>
                </a:cubicBezTo>
                <a:cubicBezTo>
                  <a:pt x="21951" y="9559"/>
                  <a:pt x="21630" y="9570"/>
                  <a:pt x="21307" y="9599"/>
                </a:cubicBezTo>
                <a:cubicBezTo>
                  <a:pt x="20948" y="9631"/>
                  <a:pt x="20576" y="9712"/>
                  <a:pt x="20241" y="9847"/>
                </a:cubicBezTo>
                <a:cubicBezTo>
                  <a:pt x="19938" y="9969"/>
                  <a:pt x="19697" y="10012"/>
                  <a:pt x="19372" y="100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50040" y="3500280"/>
            <a:ext cx="1216080" cy="295560"/>
          </a:xfrm>
          <a:custGeom>
            <a:avLst/>
            <a:gdLst/>
            <a:ahLst/>
            <a:rect l="l" t="t" r="r" b="b"/>
            <a:pathLst>
              <a:path w="3375" h="820">
                <a:moveTo>
                  <a:pt x="20141" y="10542"/>
                </a:moveTo>
                <a:cubicBezTo>
                  <a:pt x="20735" y="10386"/>
                  <a:pt x="21328" y="10198"/>
                  <a:pt x="21927" y="10046"/>
                </a:cubicBezTo>
                <a:cubicBezTo>
                  <a:pt x="22430" y="9919"/>
                  <a:pt x="22948" y="9784"/>
                  <a:pt x="23465" y="9723"/>
                </a:cubicBezTo>
                <a:cubicBezTo>
                  <a:pt x="23482" y="9723"/>
                  <a:pt x="23498" y="9723"/>
                  <a:pt x="23515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40760" y="3062160"/>
            <a:ext cx="1303200" cy="90720"/>
          </a:xfrm>
          <a:custGeom>
            <a:avLst/>
            <a:gdLst/>
            <a:ahLst/>
            <a:rect l="l" t="t" r="r" b="b"/>
            <a:pathLst>
              <a:path w="3623" h="249">
                <a:moveTo>
                  <a:pt x="20389" y="8731"/>
                </a:moveTo>
                <a:cubicBezTo>
                  <a:pt x="21032" y="8713"/>
                  <a:pt x="21671" y="8759"/>
                  <a:pt x="22324" y="8706"/>
                </a:cubicBezTo>
                <a:cubicBezTo>
                  <a:pt x="22890" y="8660"/>
                  <a:pt x="23447" y="8496"/>
                  <a:pt x="24011" y="85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order fractions, mixed numbers and decim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those Fractio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ne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fraction cubes, 2 decimal cubes, 2 number c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Roll all 6 cubes.  Add one number cube to a fraction to make a mixed number, and one number cube to a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Change all fractions into decimals on scrap 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Put your cubes in order from least to greatest on your de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Copy the numbers on your cubes onto paper in order from least to grea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Repeat steps 1-4 alternating least to greatest and then greatest to le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order fractions, mixed numbers and decimals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bottom of your paper convert the following fractions into decimals and order least to grea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84  ;      ;  3.804 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08680" y="159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951360" y="3733920"/>
                <a:ext cx="4921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986440" y="3657600"/>
                <a:ext cx="30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6782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pg. 52   18 -20   and pg. 54   20-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onvert all fractions to decimals before ordering - be sure to show work on the page or separate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1:55:52Z</dcterms:created>
  <dc:creator>Brian McGrath</dc:creator>
  <dc:description/>
  <dc:language>en-US</dc:language>
  <cp:lastModifiedBy>deanne elizabeth mcgrath</cp:lastModifiedBy>
  <dcterms:modified xsi:type="dcterms:W3CDTF">2010-10-25T17:47:54Z</dcterms:modified>
  <cp:revision>2</cp:revision>
  <dc:subject/>
  <dc:title>Course 2 Warm-up</dc:title>
</cp:coreProperties>
</file>